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51D-378F-416D-AEA1-42C7357A47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1C6-9C68-4048-A1F7-ADDAD8F9B18C}" type="slidenum">
              <a:rPr b="0" lang="cs-CZ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946-93CC-4972-82B1-30096599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2B3-C48E-44DA-A313-4BC8CC9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B8C-1E86-4902-AA27-6F72D8E6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97F-D314-4F5C-8BAA-0B8B7950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49F9-9950-46BD-B61D-62BAB98D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36B4-455A-4E7A-B5DC-2064BBC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D47D-52BC-4E6A-900C-09E0E186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4EC-1CC7-41AB-AB0A-EF5C2F8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DE31-E256-4C3A-A3D3-7BAB7057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E89-C68A-4F52-B627-5F3C4DE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89BE-FB2F-457C-93A6-FC11902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100-3261-4FFA-ACAC-F670206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D59-AF86-4DE2-A5A8-99C1E97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A981-594F-4644-B30E-CC1AE18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58B6-2729-436C-903F-E150CF6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8A86-4555-4A71-904D-E56017EC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08E7-085C-4BDE-A4F0-57F24522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B9B-8415-45B4-885B-04A8F2B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737-E254-4117-B4C9-DF7321C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CF7-850B-48BC-B48A-46D90C6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807-5E9A-4805-90F7-3414A8CB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394-7BFA-4BA5-9BAE-D13E209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A82-7466-4BE1-B2D9-8AFB462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CF2-E6D2-4718-A3E7-A585709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F514-6EF1-4A7B-A32B-1988AA150E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053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2054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2055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2056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2057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2058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2059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2060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2061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2062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2063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2064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2065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2066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2067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68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069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070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71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072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073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074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075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076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077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078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079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080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2081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2082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2083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2084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2085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2086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2087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2088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2089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2090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2091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2092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2093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2094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2095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2096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2097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2098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2099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2100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2101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2102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49FC-585A-462B-87B3-466ADD38FD6A}" type="slidenum">
              <a:rPr b="0" lang="cs-CZ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360" y="2463840"/>
            <a:ext cx="625320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Úvod do terminologie římského trestního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76360" y="4933800"/>
            <a:ext cx="711360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00"/>
                </a:solidFill>
                <a:latin typeface="Book Antiqua"/>
              </a:rPr>
              <a:t>Miroslav Frýde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Book Antiqua"/>
              </a:rPr>
              <a:t>©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476360" y="333360"/>
            <a:ext cx="7343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Book Antiqua"/>
              </a:rPr>
              <a:t>Univerzita Palackého v Olomouci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Book Antiqua"/>
              </a:rPr>
              <a:t>Právnická fakult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Děkuji vám za pozornost ………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4738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alismus římského práv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341360"/>
            <a:ext cx="7491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ius divinum X ius humanu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ius civile X ius gentiu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ius civile  X ius honorariu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ius privatum X ius publicu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V rámci trestního práva existuji dva pojmy, které systematicky zařazují protiprávní jednání buďto do veřejného nebo soukromého práva - </a:t>
            </a:r>
            <a:r>
              <a:rPr b="1" lang="cs-CZ" sz="3200" spc="-1" strike="noStrike">
                <a:solidFill>
                  <a:srgbClr val="333300"/>
                </a:solidFill>
                <a:latin typeface="Times New Roman"/>
              </a:rPr>
              <a:t>crimen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 X  </a:t>
            </a:r>
            <a:r>
              <a:rPr b="1" lang="cs-CZ" sz="3200" spc="-1" strike="noStrike">
                <a:solidFill>
                  <a:srgbClr val="333300"/>
                </a:solidFill>
                <a:latin typeface="Times New Roman"/>
              </a:rPr>
              <a:t>delictum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Římské trestní prá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341000"/>
            <a:ext cx="74916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Římské právo nemělo jednotnou úpravu  trestního práva hmotného a procesníh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ednotlivé zločiny byly upraveny zvláštními zákony, které upravovaly jak právo hmotné, tak i právo procesní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ěmito zákony vznikaly tzv. skupiny zákonů, které upravovaly určitý zloči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Ius privatum et ius public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341360"/>
            <a:ext cx="74916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Ulpianus: Dig. 1.1.2 Ulpianus 1 inst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Toto studium má dvě základní části, veřejné a soukromé.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Veřejné právo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 se vztahuje na užitek římského státu,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právo soukromé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 na zájem jednotlivce: neboť něco se týká veřejného užitku něco soukromého.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Veřejné právo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 se vztahuje na posvátnost kněžích a státních úředníků.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Soukromé právo</a:t>
            </a:r>
            <a:r>
              <a:rPr b="0" lang="cs-CZ" sz="3200" spc="-1" strike="noStrike">
                <a:solidFill>
                  <a:srgbClr val="333300"/>
                </a:solidFill>
                <a:latin typeface="Times New Roman"/>
              </a:rPr>
              <a:t> se dělí na tři části, neboť se skládá z předpisů práva přirozeného, práva mezi národy a práva občanského.</a:t>
            </a:r>
            <a:r>
              <a:rPr b="1" lang="cs-CZ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řejné žalo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Dig. 47, 23, 1, Paulus libro octavo ad edictum 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Eam populare actionem dicimus, quae suum ius populi tuetur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Říkáme, že veřejné žaloby, chrání práva strany, která vznáší žalobu, stejně tak jako (chrání) práva lidu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Je zde patrný účel veřejné žaloby - chránit práva lidu (populus Romanus), který byl nositelem suverenity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V Dig. 48, 19, 5, 2 je pro 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crimen 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použito termínu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 „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maioribus delictis“, 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což překládáme jako větší delikt nebo závažnější delikt. Tímto římské právo připouští, že existuje i 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delictum minor - 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soukromoprávní delik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Crimen X delic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Dig. 47, 1, 3 Ulpianus 2 de off. Procon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Si quis actionem, quae ex maleficiis oritur, velit exsequi: si quidem pecuniariter </a:t>
            </a:r>
            <a:r>
              <a:rPr b="1" i="1" lang="cs-CZ" sz="2400" spc="-1" strike="noStrike">
                <a:solidFill>
                  <a:srgbClr val="333300"/>
                </a:solidFill>
                <a:latin typeface="Times New Roman"/>
              </a:rPr>
              <a:t>agere 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velit, ad ius ordinarium remittendus erit nec cogendus erit in crimen </a:t>
            </a:r>
            <a:r>
              <a:rPr b="1" i="1" lang="cs-CZ" sz="2400" spc="-1" strike="noStrike">
                <a:solidFill>
                  <a:srgbClr val="333300"/>
                </a:solidFill>
                <a:latin typeface="Times New Roman"/>
              </a:rPr>
              <a:t>subscribere</a:t>
            </a: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: enimvero si extra ordinem eius rei poenam exerceri velit, tunc subscribere eum in crimen </a:t>
            </a:r>
            <a:r>
              <a:rPr b="1" i="1" lang="cs-CZ" sz="2400" spc="-1" strike="noStrike">
                <a:solidFill>
                  <a:srgbClr val="333300"/>
                </a:solidFill>
                <a:latin typeface="Times New Roman"/>
              </a:rPr>
              <a:t>oportebi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333300"/>
                </a:solidFill>
                <a:latin typeface="Times New Roman"/>
              </a:rPr>
              <a:t>Když chce někdo podat žalobu na trestný čin, ale hodlá tak učinit pro svůj vlastní finanční prospěch (ve svém zájmu), musí žalovat v běžném soudním řízení (civilním) a nemůže stíhat pachatele za trestný čin. Pokud však chce žalovat z trestného činu, pak musí podat obvinění z trestného činu v mimořádném řízení. </a:t>
            </a:r>
            <a:br>
              <a:rPr sz="2400"/>
            </a:b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333300"/>
                </a:solidFill>
                <a:latin typeface="Times New Roman"/>
              </a:rPr>
              <a:t>Agere - 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 které je chápáno jako ponášet, konat, jednat, vyřizovat, </a:t>
            </a:r>
            <a:r>
              <a:rPr b="1" lang="cs-CZ" sz="2100" spc="-1" strike="noStrike">
                <a:solidFill>
                  <a:srgbClr val="cc0000"/>
                </a:solidFill>
                <a:latin typeface="Times New Roman"/>
              </a:rPr>
              <a:t>žalovat, ustavit spor, vést proces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, ale také pomoc pontifiků a později i právníků stranám při sestavení vhodné procesní formule pro řízení in iure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333300"/>
                </a:solidFill>
                <a:latin typeface="Times New Roman"/>
              </a:rPr>
              <a:t>Subscriptio 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[-onis, f.] - ve významu juristickém je to označení pro spolužalobu (subscriptionem sibi postularunt), sub-scriptor [-oris, m.] též označení pro spolužalobce. V našem fragmentu je termínu subscriptio použito pro označení </a:t>
            </a:r>
            <a:r>
              <a:rPr b="1" lang="cs-CZ" sz="2100" spc="-1" strike="noStrike">
                <a:solidFill>
                  <a:srgbClr val="cc0000"/>
                </a:solidFill>
                <a:latin typeface="Times New Roman"/>
              </a:rPr>
              <a:t>podání obvinění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 – tedy veřejnoprávní označení pro podání žaloby ze zločinu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333300"/>
                </a:solidFill>
                <a:latin typeface="Times New Roman"/>
              </a:rPr>
              <a:t>Oportet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   [-ere, -uit] - což znamená </a:t>
            </a:r>
            <a:r>
              <a:rPr b="1" lang="cs-CZ" sz="2100" spc="-1" strike="noStrike">
                <a:solidFill>
                  <a:srgbClr val="cc0000"/>
                </a:solidFill>
                <a:latin typeface="Times New Roman"/>
              </a:rPr>
              <a:t>jest slušno, je žádoucí, má se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. Používání tohoto slovesa je termínem, který se váže k veřejnému právu a zločinu, zatímco v soukromém právu, které je ovládáno zásadou </a:t>
            </a:r>
            <a:r>
              <a:rPr b="0" i="1" lang="cs-CZ" sz="2100" spc="-1" strike="noStrike">
                <a:solidFill>
                  <a:srgbClr val="333300"/>
                </a:solidFill>
                <a:latin typeface="Times New Roman"/>
              </a:rPr>
              <a:t>vigilantibus iura scripta sunt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 je podání žaloby právem jen dotčeného (poškozené strany), pak ve veřejném právu je oprávněním a právem, každého římského občana, aby stíhal jednání, které poškozuje veřejný zájem 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→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Just. Inst. Lib. IV. Tit. 18: </a:t>
            </a:r>
            <a:r>
              <a:rPr b="0" i="1" lang="cs-CZ" sz="2100" spc="-1" strike="noStrike">
                <a:solidFill>
                  <a:srgbClr val="333300"/>
                </a:solidFill>
                <a:latin typeface="Times New Roman"/>
              </a:rPr>
              <a:t>Publica autem dicta sunt, quod cuivis ex populo executio eorum plerumque datur</a:t>
            </a:r>
            <a:r>
              <a:rPr b="0" lang="cs-CZ" sz="2100" spc="-1" strike="noStrike">
                <a:solidFill>
                  <a:srgbClr val="333300"/>
                </a:solidFill>
                <a:latin typeface="Times New Roman"/>
              </a:rPr>
              <a:t>. </a:t>
            </a:r>
            <a:r>
              <a:rPr b="1" lang="cs-CZ" sz="2100" spc="-1" strike="noStrike">
                <a:solidFill>
                  <a:srgbClr val="cc0000"/>
                </a:solidFill>
                <a:latin typeface="Times New Roman"/>
              </a:rPr>
              <a:t>Trestné jednání se nazývají veřejnými, neboť se  dovoluje, aby je vedl kdokoli z lidu.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řejné zloč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00"/>
                </a:solidFill>
                <a:latin typeface="Times New Roman"/>
              </a:rPr>
              <a:t>Dig. 48, 1, 0 Macer 1 de publ. iudi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Ne všechny zločiny jsou veřejné, veřejné  jsou pouze ty, které vycházejí z právních předpisů týkajících se stíhání trestných činů, například Iuliova zákona o urážce majestátu, Iuliova zákona o cizoložství, Corneliova zákona o úkladných vrazích a travičích, Pompeiův zákon o otcovrazích, Iuliův zákon o zpronevěře, Corneliův zákon o falšování závětí, Iuliův zákon o soukromém násilí, Iuliův zákon o veřejném násilí, Iuliův zákon o volebních podvodech, Iuliův zákon o vydírání, Iuliův zákon o zásobování (o zvyšování cen potravin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elictu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92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00"/>
                </a:solidFill>
                <a:latin typeface="Times New Roman"/>
              </a:rPr>
              <a:t>Delicta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 nebo také v Dig. 47, 1, 3 označované jako  </a:t>
            </a:r>
            <a:r>
              <a:rPr b="0" i="1" lang="cs-CZ" sz="2800" spc="-1" strike="noStrike">
                <a:solidFill>
                  <a:srgbClr val="333300"/>
                </a:solidFill>
                <a:latin typeface="Times New Roman"/>
              </a:rPr>
              <a:t>maleficia </a:t>
            </a:r>
            <a:r>
              <a:rPr b="0" i="1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</a:t>
            </a:r>
            <a:r>
              <a:rPr b="0" i="1" lang="cs-CZ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zlý čin</a:t>
            </a:r>
            <a:r>
              <a:rPr b="0" i="1" lang="cs-CZ" sz="2800" spc="-1" strike="noStrike">
                <a:solidFill>
                  <a:srgbClr val="3333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tvoří základ jedné třídy obligací a to </a:t>
            </a:r>
            <a:r>
              <a:rPr b="1" i="1" lang="cs-CZ" sz="2800" spc="-1" strike="noStrike">
                <a:solidFill>
                  <a:srgbClr val="cc0000"/>
                </a:solidFill>
                <a:latin typeface="Times New Roman"/>
              </a:rPr>
              <a:t>obligationes ex delicto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Výčet těchto deliktů nám podává např. Gaius III. 182: </a:t>
            </a:r>
            <a:r>
              <a:rPr b="1" i="1" lang="cs-CZ" sz="2800" spc="-1" strike="noStrike">
                <a:solidFill>
                  <a:srgbClr val="cc0000"/>
                </a:solidFill>
                <a:latin typeface="Times New Roman"/>
              </a:rPr>
              <a:t>furtum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- krádež, </a:t>
            </a:r>
            <a:r>
              <a:rPr b="1" i="1" lang="cs-CZ" sz="2800" spc="-1" strike="noStrike">
                <a:solidFill>
                  <a:srgbClr val="cc0000"/>
                </a:solidFill>
                <a:latin typeface="Times New Roman"/>
              </a:rPr>
              <a:t>rapina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- loupež, </a:t>
            </a:r>
            <a:r>
              <a:rPr b="1" i="1" lang="cs-CZ" sz="2800" spc="-1" strike="noStrike">
                <a:solidFill>
                  <a:srgbClr val="cc0000"/>
                </a:solidFill>
                <a:latin typeface="Times New Roman"/>
              </a:rPr>
              <a:t>damnum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– způsobení škody, </a:t>
            </a:r>
            <a:r>
              <a:rPr b="1" i="1" lang="cs-CZ" sz="2800" spc="-1" strike="noStrike">
                <a:solidFill>
                  <a:srgbClr val="cc0000"/>
                </a:solidFill>
                <a:latin typeface="Times New Roman"/>
              </a:rPr>
              <a:t>iniuria</a:t>
            </a:r>
            <a:r>
              <a:rPr b="0" lang="cs-CZ" sz="2800" spc="-1" strike="noStrike">
                <a:solidFill>
                  <a:srgbClr val="333300"/>
                </a:solidFill>
                <a:latin typeface="Times New Roman"/>
              </a:rPr>
              <a:t> – urážka na cti. Aktivní legitimaci v těchto případech má jen poškozený, což je jasný rozdíl od okruhu aktivně legitimovaných v případě zločinu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4:58:53Z</dcterms:created>
  <dc:creator>Honza</dc:creator>
  <dc:description/>
  <dc:language>en-US</dc:language>
  <cp:lastModifiedBy>Miroslav Frýdek</cp:lastModifiedBy>
  <dcterms:modified xsi:type="dcterms:W3CDTF">2010-08-29T15:49:10Z</dcterms:modified>
  <cp:revision>714</cp:revision>
  <dc:subject/>
  <dc:title>Crimen maiestat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4</vt:r8>
  </property>
</Properties>
</file>