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F17B-892D-44C4-BBDF-CCDED9412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11B5-30A2-4B02-857E-D563224D7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4C38-235E-4CE2-AB73-71BD19AFA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9334-624B-436D-91EC-03F08D8F8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2067-568C-45DF-AE41-ECC79D9F9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88AA-F862-4CD9-9B4A-3B84F405F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D6D1-594E-4D1F-86C7-633DAD28B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C32E-9620-4243-BAB3-521ABC259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EC1E-FDC9-427B-A5D1-8F4244203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BFBC-2969-4153-8510-15D571E6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09E4-751E-4AF4-8E8E-A57FB9C97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1324-9BFF-4498-B7A1-5D8ECAED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AE951-E4A9-4B38-8D52-E5AAB142F1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879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estní právo v pohledu právní archeologi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941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UDr. Vilém Knoll, Ph.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atedra právních děj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akulta právnick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padočeská univerzita v Plz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logo"/>
          <p:cNvPicPr/>
          <p:nvPr/>
        </p:nvPicPr>
        <p:blipFill>
          <a:blip r:embed="rId1"/>
          <a:stretch/>
        </p:blipFill>
        <p:spPr>
          <a:xfrm>
            <a:off x="3564000" y="3500280"/>
            <a:ext cx="201924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ávní archeologie – české zem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kus Václava Vaněčka o vytvoření specializovaného právněarcheologického pracoviště nakonec neměl úspě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v roce 1967 vytvořená pracovní skupina fungovala jen krátc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nes se této problematice systematicky nevěnuje žádné odborné pracoviště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ávní archeologi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členění hmotných pramen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stavně a administrativně práv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ajetkově práv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udněprocesní (netrestn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restněpráv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le K. Adamo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ústavně a administrativně právní prame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boly moci vládní a výkonn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runovační klenoty, úřední hole, meče, korouhve, praporce, rychtářská práva, cechovní ferule, úřední uniformy, obsíl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do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sněmovní budovy, mýtnice, celnice, solnice, pošty, mincov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ajetkově právní prame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značení hranic nemovitostí (mezník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zorové míry a vá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buše (vrubovk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železné krá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soudněprocesní (netrestní) prame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ředměty související se soudním řízení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dní budovy a místa konání soud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děvy soud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boly soudu a spravedl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restněprávní prame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dovy (věznice, mučírny, katovn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tatní nemovité památky (popraviště, pranýř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ité památky (nástroje mučící a nástroje sloužící k výkonu trestu – popravčí, mrzačící, zajišťujíc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ávní archeologi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ehmotné prame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blematika právních symb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blematika symboliky právního jedn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blematika právněarcheologických aspektů písemných památ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4604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ávní archeologi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trestní práv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463840"/>
            <a:ext cx="8229600" cy="30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měříme se na vybrané oblasti souvisejících zejména s hrdelním práv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ákladní přehled jednotlivých druhů hmotných památek a jejich typolo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raviště - výzk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pravištím je věnována v poslední době pozornost zejména ze strany archeolog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ákladní středoevropskou publikací, shrnující dosavadní znalosti, 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ost Auler, Hrsg. Richtstättenarcheologie (200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raviště – výzkum 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ozvoj v na přelomu 20. a 21. století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ečov nad Teplou – Petr Sok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lzeň – Petr Sokol a Jan Hajš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ožmberk nad Vltavou – Daniel Ková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odňany – Pavlína Mašková a Jan Michál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ávní archeologie – vývoj obor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ři základní směry zkoumání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ust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bolika (význam gest a jednán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otné předměty (jejich právní význa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raviště – základní dru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Šibenice (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Galgen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ísta sloužící k výkonu trestu smrti zejména ve formě oběš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ínadla (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Rabenstein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- místa sloužící k výkonu trestu smrti zejména ve formě setnutí hla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Šibenice - typolog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šibenice kolínkov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šibeniční kří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šibenice vidlicová (dvoupilířová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šibenice tří a více pilířov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šibenice studnič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36000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cheologický výzkum popraviš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19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jznámějším evropským výzkumem je Emmenbrücke u Luzernu (Švýcarsko) z roku 1987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de o trojbokou zděnou šibenici v areálu mrchoviště, v jejímž okolí byla nalezena mimo jiné řada skeletů popravených osob. Byla využívána v 16. až 19. stolet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Bečov nad Tepl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námým českým výzkumem je Šibeniční vrch u Bečova nad Teplou (Karlovarský kraj) z roku 2002-2003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de o zděnou šibenici kruhového půdorysu o průměru 4,8 m ve výrazně dominantním postavení nad městem. Původně snad kolem 3 m vysoká s několika (3?) pilíři, přístupná vchodem s uzamykatelnými dveřmi. Ve vnitřním prostoru jednotlivé lidské kosti několika jedinců. Přestala být využívána v 18. stolet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560" y="187200"/>
            <a:ext cx="8713800" cy="626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zůstatky skeletů pohozené v okolí popravišť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imární poškození skeletů v souvislosti s poprav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ězeňské prostory a jejich zajištění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681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ástroje sloužící k útrpnému výslechu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palečnic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španělská bota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žebří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66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ástroje sloužící k výkonu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rdelního trestu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popravčí meč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kolo k lámá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ástroje sloužící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 výkonu potupného trestu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 pranýř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 „housličky“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 klád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 potupné mas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írčí kříž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čátky moderní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ávní archeologie - Německ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acob Grim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eutsche Rechtsaltertümer 18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arl von Ami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Grundiss des germanisch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echts 18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laudius von Schwer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inführung in die Rechtsarchäologie 19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951520" y="1557360"/>
            <a:ext cx="30132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ec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Děkuji za pozornost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knol@kpd.zcu.cz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čátky moderní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ávní archeologie – další zem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ranc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. Miche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rigines du droit francąis dans les symboles et les formules du droit universel 1837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olsk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itold Mai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rcheologia prawna Polski 198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rcheologia prawna Europy 19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ávní archeologie – české zem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xistuje řada drobných prací či pasáží v rámci větších dě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příkla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ohuslav Balbí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ugust Sedláč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áclav Vaněč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arolina Adamov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ávní archeologie – české zem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ětší monografická zpracování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pokus o soupis dochovaných pranýř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hard Horna – Pranýř (1941, 195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pokus o soupis dochovaných památek souvisejících s trestním práv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indřich Francek a Tomáš Šimek – Hrdelní soudnictví českých zemí. Soupis pramenů a literatury (199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ávní archeologie – české zem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soupis smírčích kříž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roslav Vít a kolektiv - Kamenné kříže Čech a Moravy (1997, 2001); Dodatky (200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éto problematice se věnuje Společnost pro výzkum kamenných křížů při Muzeu A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ávní archeologie – české zem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řehledové a další prá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- symbolika spravedlnost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arolina Adamová a Jiří Šouša – Spravedlnost v českém výtvarném umění (200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- konference o právní symboli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ymbol a symbolika v právu, usp. K. Brzobohatá a T. Tyl (200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ávní archeologie – české zem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egionální plošné výzkum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upisy památek trestního práva (popraviště, pranýře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echyňský kraj – Daniel Ková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ácheňský kraj – Jiří Fröhl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3:24:41Z</dcterms:created>
  <dc:creator> </dc:creator>
  <dc:description/>
  <dc:language>en-US</dc:language>
  <cp:lastModifiedBy> </cp:lastModifiedBy>
  <dcterms:modified xsi:type="dcterms:W3CDTF">2010-09-20T20:56:27Z</dcterms:modified>
  <cp:revision>13</cp:revision>
  <dc:subject/>
  <dc:title>Právní archeologie a trestní právo</dc:title>
</cp:coreProperties>
</file>