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87C-E930-43F8-A6C9-162DA9DB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609-E471-463C-A2F7-7C44FA2D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DFC-2902-4F21-BA57-C6874E32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28D-B205-40DB-A159-86BD97B8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357-C021-4EBC-81C0-8EBC31B1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C62-40A7-4654-96CF-A7216AFB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430-8B1D-4AEB-B91F-327E2AE2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ABD-3568-4703-B83E-FF199C93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B03-0E30-4FD3-94E9-EC01DB9B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DE0-A175-4CC1-AFD3-148F9ABA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894-8F99-4728-A017-54F23F54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3C7-20A6-408C-8764-DB0FD7B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399F-9DBA-43E8-8A19-1C100B49C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31640"/>
            <a:ext cx="7772400" cy="35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Základní principy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vybrané instituty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ředověkého trestního práv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000" y="4869000"/>
            <a:ext cx="546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UDr. Vilém Knoll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dra právních děj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akulta právnick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logo"/>
          <p:cNvPicPr/>
          <p:nvPr/>
        </p:nvPicPr>
        <p:blipFill>
          <a:blip r:embed="rId1"/>
          <a:stretch/>
        </p:blipFill>
        <p:spPr>
          <a:xfrm>
            <a:off x="755640" y="4941720"/>
            <a:ext cx="20192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oručení půhon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sedání soud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ehled skutkových pods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i panovníkovi a st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i ví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i mra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i životu a zdrav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i c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i maje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stava tres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del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začí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ěles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z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etkov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az nebo určení poby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c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ládání tres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ace tres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ýznam mil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kuce kapitálního tres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sta na popraviš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úkony prováděné před vykonáním tr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astní exekuce (popra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větská klatba 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(Ach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st – donucovací prostřed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kupitelná – nevykupitel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rt právní – smrt biologick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mírčí smlouv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(Sühnevertr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ční náhrada (odškodněn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ku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hrazení nákladů (platba lékaři, úhrada pohřb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éče o duši (zádušní mše, pamětní mše, nekrologium, obětiny, pouť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ká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írčí kří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Urfehde – kriminální rever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ři vývojové fá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anná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treit(Fehde)urfehde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14. – 16. stolet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rcholná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efangenschaft(Haft)urfehde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15. – 17. stolet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zdní (18. stolet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04400"/>
            <a:ext cx="91440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dnání o ukončení sporu - pok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kce a reak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říbuzenská solida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ávo na odvetu a povinná m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sta – regulátor společnos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hn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ě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4572000"/>
            <a:ext cx="331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knol@kpd.zcu.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ezení msty – cesta k soud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33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řetězení krevní ms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áh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ém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jednav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d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delní regá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rdelní pravomoc jako výhradní právo panovníka formulováno nejpozději v polovině 14. století (Maiestas Carolin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rdelní soudnictví bylo přizná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emkovým vrchnostem světský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ako dědičná patrimoniální popr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základě panovníkova privilegia, respektive i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rálovským městům na základě panovníkova privil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danským městů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základě oprávnění vrch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základě zvláštního panovníkova privil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le B. Roučka (uprave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álovský s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iciální orgány veřejné mo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rajští poprávci (posléze hejtman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rálovská měs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íl na popravě (konec 14. stolet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kon hrdelní pravomoci nad zločinci, kteří jim byli předá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dní pro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kuzační pro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kviziční pro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kromý charakter trestního práva pomalu proměňován  rostoucí oficializac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00" y="115920"/>
            <a:ext cx="91044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ežívající legalizovaná svépomoc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Přežívající svépomoc – záští 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ehd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ůkazní prostř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acionál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ýslech účastník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ýslech svědk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ěcné důk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istinné důk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hledání místa, předmětu ap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racionál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sa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d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20:35:58Z</dcterms:created>
  <dc:creator>PC</dc:creator>
  <dc:description/>
  <dc:language>en-US</dc:language>
  <cp:lastModifiedBy> </cp:lastModifiedBy>
  <dcterms:modified xsi:type="dcterms:W3CDTF">2010-09-20T21:03:23Z</dcterms:modified>
  <cp:revision>10</cp:revision>
  <dc:subject/>
  <dc:title>Právní archeologie a trestní právo</dc:title>
</cp:coreProperties>
</file>