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076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8D8-4018-42BA-B402-F0F8EB7020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A835-09C6-42D0-9147-82D506A709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8A67-E937-4CEE-A09A-D2195A2402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679-32C6-4DCE-9288-921FA940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227-F5D2-4DE4-B7DD-10FCA81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709-1E79-4B12-AC01-00F7EBC9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A9B-A6C1-48ED-8791-61D4C587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E6E-F7C4-411F-A04D-0937A8F3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61A-A8E6-4D2B-8F00-15584768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2CE0-E969-47FC-9399-ACC43EE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1F2C-048F-4082-BC27-38A7246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BEB0-9685-4001-BCD2-E3552448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BE1-547D-4A9D-89EF-30D2A230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F45E-A5CC-4C9D-951F-31111C4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FF3-F248-4A47-ABC8-A3E48E7B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03B1-7A40-405A-B19B-704B7F1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2EE-1D29-4230-9952-205A894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F6F-C629-48CA-AD56-421977C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910E-FE31-43CE-B7F8-9CF1D04E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3BA-7DEF-4153-B229-9E06C97C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763-DA95-47AD-B67D-0439C77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6B5-0F15-4DB5-96A7-B1849D0A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838-0D99-499A-B824-D94165F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84C-B293-46BD-ABC5-EA716FD4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145-73F6-4232-AE3B-C36E628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C6B-4917-4D93-990E-5B189F2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640-D5C7-4C69-9F3A-196083E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A769-8C3D-4FF4-8BF3-A786572CA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E4C1-BCC7-424A-A98D-F7F35997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Chetitské trestní právo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Mgr. Michaela Uhlířov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tedra dějin státu a prá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F 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ybrané trestné či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723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i státnímu a společenskému zříze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ěřující proti krá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álovražd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por proti rozhodnutí královského sou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ěřující proti jiným autoritá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por proti rozhodnutí soudu hodnostář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por otroka proti pánu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zerce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zd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ti životu a zdrav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ražda x zabit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prava v zákonech i Telipinově prohlášen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plata či náhrad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mysl x nedbal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vač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ma náhr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ální TČ – vražda obchodní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blížení na zdrav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mezení osobní svobo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n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jetkové trestné čin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ráde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ony upravují především krádež nejdůležitějších komod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še náhrady závislá na předmětu T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ilní sank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dv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oprávněné užívání cizí vě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tivý nálezce x zlodě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loupán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stnost pokus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škození cizí věci, žhářstv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xuální delik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zoložstv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ži x že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rušování rodinných vaz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émoc a podmínky pro její využit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řistižení „in flagranti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ž sdílí osud že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násilněn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iv místa činu na posouzení druhu trestného čin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stní vzta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revní pouto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íbuzenství vzniklé sňatk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rá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domi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iv předmětu T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ické delik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čarodějnictví x magie x černá ma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ozování černé ma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risdikce královského sou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st smrti v případě otrok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estní právo proces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597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stava soud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ada starší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dy vedené správci oblastí a úředník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ēl madgalt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álovský so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vláštní soud pro privilegované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nku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sah do výkonu justice (osvobození obviněný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estní říze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hájen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ciativa poškozenéh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tarávání důkazů (především svědc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dní jedn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stn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še protokolová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škeré výpovědi potvrzeny přísah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viněný zadržen poškozený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likace zákonů a obyčejů soud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iv místních zvyků a trad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zsud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vobození x odsouzen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xeku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ymáhání přisouzené náhra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ioritně v rukou poškozeného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stavní právo k majet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oží rozhodnutí v chetitském právu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dály (ordál vodo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snov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č Chetité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jstarší chetitské trestní právo a jeho refor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s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ybrané trestné či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č Chetité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etitská říše vznikla v polovině 2. tisíciletí př. Kr. na území dnešního Tureck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1481040"/>
            <a:ext cx="74566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č Chetité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estože na ni měly vliv okolní státy zachovala si specifický ráz, a to jak v oblasti kultury, tak i v oblasti práv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2841480"/>
            <a:ext cx="4321080" cy="404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948040" cy="39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843280" y="2060640"/>
            <a:ext cx="3384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č Chetité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íky dochovaným pramenům lze sledovat vývoj trestního práva od práva vznikajícího státního útvaru až po právo rozvinutého starověkého státu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sadním pramenem pro poznání práva jsou tzv. chetitské zákon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46720" y="3095640"/>
            <a:ext cx="2897280" cy="378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362400"/>
            <a:ext cx="42116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jstarší chetitské trestní práv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ho reform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očátcích chetitského státu převládá právo obyčejové. To je typické předevší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em odpl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lmi přísnými sankcemi, které mají sloužit také jako prevence proti páchání trestné činn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jením sankcí s konkrétním trestným čin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ádež úlů, osetí již osetého p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ílený náboženský asp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etí již osetého p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a chetitskými záko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é zmírnění sankc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 odpla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ncip náhra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10188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hrad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 prospěch poškozenéh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itu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ční odškodněn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hlednění aktuální situ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utečně způsobené škody např. v závislosti na předmětu trestného činu, př. pole x zanedbané p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íra zavinění, úmysl x nedbal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dné znaky trestního práva před reformou i po 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hrana vládnoucí vrstv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iv náboženstv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erenciace dle osoby pachatele i poškozenéh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es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st smr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 reformě ukládaný méně častěj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zdor proti vládnoucí skupin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xuální delikty (v některých případech jej reforma nahradila obětino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ké delikty (jen u otroků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začící tres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ládané jen otroků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: odseknutí nosu a uš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jetkové tres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jfrekventovanější sankce po provedené reformě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ohlednění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ktivní stránky TČ (úmysl x nedbalo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oby pachatele a poškozené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utečně způsobené újmy poškozeného (př. zapálená stáj, vin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hatel nemá prostředky na úhra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roctv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4:58:53Z</dcterms:created>
  <dc:creator>Honza</dc:creator>
  <dc:description/>
  <dc:language>en-US</dc:language>
  <cp:lastModifiedBy>Michaela</cp:lastModifiedBy>
  <dcterms:modified xsi:type="dcterms:W3CDTF">2010-09-15T21:00:56Z</dcterms:modified>
  <cp:revision>725</cp:revision>
  <dc:subject/>
  <dc:title>Crimen maiestat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4</vt:r8>
  </property>
</Properties>
</file>