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5D5-4A07-4EFC-89D7-7E032B44A4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632-2206-4C94-A8C3-73ECC98163D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3F62-BDC8-4847-A59E-868DA200FEB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C43C-FC0A-4660-AEA6-86F853F21BD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3521-77F4-4372-AA9C-194B38A643B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C991-F63D-4E2C-A875-2D367A3E575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E4C-4801-4C11-BDFF-59F70718E39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37B-164E-4176-8271-FA9120D7900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590-1A85-4CB8-B570-F5BBBF51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45C-7AAA-428F-877E-86A007F6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E8B-A792-4C99-990C-A3E3B870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66D-94DF-4EAB-995E-DAAB3157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BFE3-6B03-4016-9FED-C99BE1F4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E43A-44B4-4DA4-A722-F36173AA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91D-0D28-44B9-82C2-7183C08E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BF3B-931E-4E07-998D-3362156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E63D-1E6E-4E21-B82B-A681CC65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FF6F-F70C-4ED5-949F-BA31F70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DE5-149A-494B-A18E-A8E1262E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AEC-FF93-4CFB-B009-2F81E5D5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2B9F-31CE-465B-A304-9D338DB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44E6-14B5-4FDF-B469-AD1EDBCE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E4E4-9203-4DF9-B64D-7D4FEBF3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781C-1681-4BF9-9669-3FC10B1B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C907-5666-4539-ACD9-7B578BE4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B03-DC9B-42BE-A4BE-BDEA9D76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03E-2B8F-49F8-8123-CD63C0D4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563-B585-4D09-B3C1-EA5C634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54B-B7B3-4D19-8C4B-CF938EB4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382-226B-42EA-87C3-7906F60B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41A-B489-4EF0-8A3E-5746DA7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41A-3661-48CA-866B-74B9CF8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5570-32D6-4E74-B919-1A5569EC8BE9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F0A2-C23E-4F56-8D20-F8151F7940E3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78544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Právnická fakulta MU v Brně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etní škola trestního práva 2010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akouské a uherské trestní právo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 18. až  20. století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adislav Vojá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ecff"/>
                </a:solidFill>
                <a:latin typeface="Times New Roman"/>
              </a:rPr>
              <a:t>Uherské království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2142720"/>
            <a:ext cx="914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vzaté a vnucené rakouské předpis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raxis criminalis Ferdinande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Trestní zákoník Josefa II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jen pokusy o vlastní kodifikac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dílčí modernizace v soudní prax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276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ecff"/>
                </a:solidFill>
                <a:latin typeface="Times New Roman"/>
              </a:rPr>
              <a:t>Pokusy o kodifikac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2071440"/>
            <a:ext cx="8991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Times New Roman"/>
              </a:rPr>
              <a:t>zákoník o zločinech a jejich trestání 1795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Times New Roman"/>
              </a:rPr>
              <a:t>návrh zákoníku z roku 1827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Times New Roman"/>
              </a:rPr>
              <a:t>zákony z let 1843 – 1844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cc66"/>
                </a:solidFill>
                <a:latin typeface="Times New Roman"/>
              </a:rPr>
              <a:t>o deliktech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cc66"/>
                </a:solidFill>
                <a:latin typeface="Times New Roman"/>
              </a:rPr>
              <a:t>o trestním proces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o vězeňské soustav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Zákoník o zločinech a jejich trestání 179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vrh sněmovní komise (= Codex de delictis eorumque poeni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ikdy nebyl předložen k projednání sně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y trestního práva hmotného i procesní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aha zformulovat základní principy, o něž se má trestní právo opí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rozenoprávní pojetí trestního práva, ale zároveň některé přežité institu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Zásady návrhu z roku 179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sada zákonnosti trestního prá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připouštěl obyčejové trestněprávní no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čel trestu: nejen odrazení pachatele a ostatní veřejnosti od spáchání stejného trestného činu, ale také nápra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incip rovnosti před zákonem (s výjimkou aplikace trestu bití prute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elikty proti náboženství (rouhání, pověry a kacířstv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Návrh z roku 1827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němovní komis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epříliš povedený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rezignoval na liberální princip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euznával zásadu rovnosti str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rohluboval dopad stavovských rozdíl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dmítla jej sílící sněmovní opoz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ony z let 1843 – 184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Times New Roman"/>
              </a:rPr>
              <a:t>o delikte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Times New Roman"/>
              </a:rPr>
              <a:t>o trestním procesu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Times New Roman"/>
              </a:rPr>
              <a:t>o vězeňské soustav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chválila je jen dolní komor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ezůstaly bez ohlasu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Návrh trestního kodexu 184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všechny vrstvy obyvatelstva včetně duchovenstv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á a zvláštní čá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estné činy a přestup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tně zavinění, polehčující a přitěžující okolnosti, pokus trestného činu, promlčení a po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likty: proti osobě, proti majetku, proti společnosti a proti stát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nal tělesné a mrzačící tresty ani trest smr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novil jen horní hranici tres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Trestní zákon z roku 1852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= modernizující revize hmotněprávních ustanovení zákoníku z roku 1803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va díly: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o zločinech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o přečinech a přestupcích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berální zásad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zákonnost, zákaz retroaktivity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regnantní formulace skutkových podsta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(X  přežívání dobou překonaných institutů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277920"/>
            <a:ext cx="7416720" cy="193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Vojenský trestní zákon 1855 (č. 19/1855 ř. z.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2857680"/>
            <a:ext cx="896472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ro osoby podléhající vojenským soudů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obsahoval i skutkové podstaty běžných (nevojenských) delikt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Times New Roman"/>
              </a:rPr>
              <a:t>Doplnění trestního zákon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iskový zákon (1863, novelizace 1868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ákon o policejním dohledu  1873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= postih tuláctví a žebro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ákon proti obecně nebezpečnému užívání třaskavin 1885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= postih anarchistické činnosti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616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3" descr="R-U_1908"/>
          <p:cNvPicPr/>
          <p:nvPr/>
        </p:nvPicPr>
        <p:blipFill>
          <a:blip r:embed="rId1"/>
          <a:stretch/>
        </p:blipFill>
        <p:spPr>
          <a:xfrm>
            <a:off x="571680" y="241200"/>
            <a:ext cx="7929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TRESTNÍ PROCES</a:t>
            </a:r>
            <a:br>
              <a:rPr sz="4800"/>
            </a:b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Trestní řád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8964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rozatímní trestní řád z roku 1850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 duchu revolučních postulát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estní řád z roku 1853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 duchu bachovského absolutism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estní řád z roku 1873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vrat k principům z roku 185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Trestní právo 1848 – 191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revoluce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tyčen (a neuskutečněn) požadavek kodifik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ílčí záko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y o tisku, o tajných soudech ad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achovský absolutismu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váděny rakouské předpis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Judexkuriální konference 186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Rakousko-Uhersk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kodifikace trestního prá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ílčí záko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Bach"/>
          <p:cNvPicPr/>
          <p:nvPr/>
        </p:nvPicPr>
        <p:blipFill>
          <a:blip r:embed="rId1"/>
          <a:stretch/>
        </p:blipFill>
        <p:spPr>
          <a:xfrm>
            <a:off x="6715080" y="3714840"/>
            <a:ext cx="2138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Judexkuriální konference 1861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8930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ýsledkem Prozatímní právní pravidl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ásadně platí feudální uherské práv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ávrh zavést osnovu trestního zákona 1843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učebnice profesora Paulera (1864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Kodifikac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bchodní zákon z roku 1875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ěnečný řád 1876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živnostenský řád 1872, 1884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trestní zákon z roku 187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přestupkový zákon z roku 1879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trestní řád z roku 1896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úprava exekučního řízení z roku 1881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bčanský soudní řád z roku 191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Trestní právo hmotné po roce 186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rušení tělesných trestů a věznění v okovech (zák. čl. LII:1871)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on o zločinech a přečinech V:1878 (Codex Czemegi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řestupkový zákon 187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elizace 1897 a 190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ředpisy z předválečné do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ákon o zločinech a přečinech (V:1878)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cházel z klasicko-dogmatické školy trestního prá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estní delikt = skutečnost, naplňující jisté objektivní znaky (X osobnost pachatele odsouval do pozadí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uktura a pojmosloví vesměs jasné, přesné, a proto i poměrně obtížně zneužitelné (X uherská soudní prax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raz na přesnou formulaci skutkových podst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elik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Delik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lišoval zločiny, přečiny a přestup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ráni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át, jeho instituce a reprezentanty (včetně panovníka a ostatních příslušníků panovnické rodiny a dualistického uspořádání monarchie + vyžadoval též věrnost monarchii jako celk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ivot, zdraví osobní integritu a čest jednotliv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itické delikty pojímal v liberálním duc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postihoval zakládání odborových organizací ani organizování stávek a účast na ni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83944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Přestupkový zákon (zák. čl. XL:187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éně závažné delik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eupravoval přestupkové právo komplexně (+ statuty městských a komitátních municipií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ředpisy z předválečné dob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tíhání zahalečů a tuláků (zák. čl. XXI:1913)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estněprávní ochrana úřadů (zák. čl. XL:1914)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iskový zákon (zák. čl. XIV:1914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ákon o ochraně cti (zák. čl. XLI:1914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Trestní právo procesní do vydání TŘ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848 – zachovány stavovské rozdí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udexkuriální konference = odstranění stavovské nerov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nisterská nařízení = přestupkové řízení a řízení před okresními sou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chválená Prozatímní pravidla 1872 (Csemegiho koncep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Pobělohorské změny v rakouském t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restn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ím 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práv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novená zemská zřízen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ské řády a </a:t>
            </a:r>
            <a:r>
              <a:rPr b="0" lang="cs-CZ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struk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výšená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hrana panovník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sada oficial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Trestní řád a další vývoj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trestní řád 1896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rozšíření působnosti </a:t>
            </a: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porotních soudů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1897 (fungovaly od 1867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ouborná novelizace trestního zákona i trestního řádu 1908 (= podmíněné odsouzení)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ákon o soudech mladistvých 1913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 vypuknutí války zrychlené soudní řízení</a:t>
            </a:r>
            <a:r>
              <a:rPr b="0" lang="cs-CZ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Trestní řád (zák. čl. XXXIII:1896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rancouzský a německý vz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berálnější a humánnější než rakouský trestní řád (důsledně vycházel z obžalovací zásady; jasné a stručné formulace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přípravné řízen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hlavní líčen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možnost odvolán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Times New Roman"/>
              </a:rPr>
              <a:t>Přípravné říze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vě formy : vyhledávání (policejní orgány) a vyšetřování (vyšetřující soudce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evládala písemnost a taj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řejná obžaloba: státní /královské/ zastupitelství (ovšem žalovat mohl i poškozený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vláštnost: obžalobní senát, rozhodující o oprávněnosti námitek obžalovanéh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Times New Roman"/>
              </a:rPr>
              <a:t>Hlavní líčení a odvol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ásady veřejnosti, ústnosti a bezprostřednost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ůkazní řízení: zásada volného hodnocení důkaz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 první instanci okresní soudy (samosoudcové) a sedrie (tříčlenné senáty soudců z povolání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ožnost odvolání (také skutkové okolnosti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řetí instance (jen případné právní vady rozsudku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orotní soud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o tisku 1848 (= tiskové delikt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ungovaly od 186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šíření působnosti 1897 (= i jiné závážnější trestné či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znamy porotců (předseda sedrie a vrcholný představitel územní správy v daném obvodě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oký majetkový censu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běr lose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álky nefungoval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Srovn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600200"/>
            <a:ext cx="8472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počátku náskok západní části monarchie (úspěšné kodifikace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Slovensku modernizovala právo soudní prax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 v západní části monarchie později ustrnu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zdější uherské kodifikace a další předpisy modernějš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Trestní právo Slovenského státu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 zásadě zachována platnost recipovaných předpis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přísnila a rozšířila se ochrana stát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o trestných činech proti státu (č. 320/1940 Sl. z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o zvýšeném trestání podvratné činnosti (č. 166/1941 Sl. z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patření vyvolaná vypuknutím SN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Retribu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ccff"/>
                </a:solidFill>
                <a:latin typeface="Verdana"/>
              </a:rPr>
              <a:t>= </a:t>
            </a:r>
            <a:r>
              <a:rPr b="0" lang="cs-CZ" sz="3200" spc="-1" strike="noStrike">
                <a:solidFill>
                  <a:srgbClr val="66ccff"/>
                </a:solidFill>
                <a:latin typeface="Times New Roman"/>
              </a:rPr>
              <a:t>potrestání válečných provinilců, zrádců a kolaborant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tribuční dekrety (16, 17 a 138/1945 Sb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ař. SNR č. 33/1945 Zb. n. SN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mimořádné lidové sou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15/1946 Sb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právnosti jednání souvisícího s bojem o znovunabytí svobody …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0. září 1938 až 28. října 194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a např. v Rakousku, Francii nebo Itál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Změny z počátku novověku</a:t>
            </a: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91440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restní právo jako samostatné odvětv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d 16. a 17. století výraznější rozdíly při projednávání soukromoprávních  a trestních záležitostí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motné a procesní právo upravováno společn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ísemné soudní řízení (v 17. a 18. století)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 důkazním řízení také mučení při výslechu (tortura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Kodifikace trestního práva</a:t>
            </a: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stní zákoník Josefa I. (1707/1708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nstitutio criminalis Theresiana (1768/1869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restní zákoník Josefa II. (1787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Kriminální řád (1788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Zákoník o zločinech a těžkých policejních přestupcích (1803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Constitutio criminalis Theresiana (1768/1869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tředověké přežitky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g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utost presumpce vin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ná důkazní teor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rtur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čarodějnictv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3" descr="CCT-02"/>
          <p:cNvPicPr/>
          <p:nvPr/>
        </p:nvPicPr>
        <p:blipFill>
          <a:blip r:embed="rId1"/>
          <a:srcRect l="66548" t="0" r="0" b="4091"/>
          <a:stretch/>
        </p:blipFill>
        <p:spPr>
          <a:xfrm>
            <a:off x="5786280" y="2357280"/>
            <a:ext cx="29624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Trestní zákoník Josefa II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(1787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sada záko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plnost, vytříbenost a stru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če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ehčujících a přitěžujících okolnos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nove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dmínky zániku trestnosti pach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stný i pokus trestného či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chovná funkce trest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(C. Beccari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rušení trestu smr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osta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ruté tělesné tres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louhé tresty odnětí svobod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b76"/>
                </a:solidFill>
                <a:latin typeface="Times New Roman"/>
              </a:rPr>
              <a:t>Cesare Beccaria (1738-179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3" descr="beccaria"/>
          <p:cNvPicPr/>
          <p:nvPr/>
        </p:nvPicPr>
        <p:blipFill>
          <a:blip r:embed="rId1"/>
          <a:stretch/>
        </p:blipFill>
        <p:spPr>
          <a:xfrm>
            <a:off x="0" y="1447920"/>
            <a:ext cx="3930480" cy="5410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Beccaria-dílo"/>
          <p:cNvPicPr/>
          <p:nvPr/>
        </p:nvPicPr>
        <p:blipFill>
          <a:blip r:embed="rId2"/>
          <a:srcRect l="7926" t="0" r="6737" b="0"/>
          <a:stretch/>
        </p:blipFill>
        <p:spPr>
          <a:xfrm>
            <a:off x="5040360" y="0"/>
            <a:ext cx="41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eccaria-01"/>
          <p:cNvPicPr/>
          <p:nvPr/>
        </p:nvPicPr>
        <p:blipFill>
          <a:blip r:embed="rId3"/>
          <a:srcRect l="0" t="1151" r="0" b="0"/>
          <a:stretch/>
        </p:blipFill>
        <p:spPr>
          <a:xfrm>
            <a:off x="0" y="549360"/>
            <a:ext cx="50036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Zákoník o zločinech a těžkých policejních přestupcích (1803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2214720"/>
            <a:ext cx="5062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ět upravi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pro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í právo společn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znalost zákona neomlou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í princip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estního práva a říz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 pozdější úprav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z roku 185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3" descr="Zeiller"/>
          <p:cNvPicPr/>
          <p:nvPr/>
        </p:nvPicPr>
        <p:blipFill>
          <a:blip r:embed="rId1"/>
          <a:stretch/>
        </p:blipFill>
        <p:spPr>
          <a:xfrm>
            <a:off x="5857920" y="2357280"/>
            <a:ext cx="3021120" cy="431172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4"/>
          <p:cNvSpPr/>
          <p:nvPr/>
        </p:nvSpPr>
        <p:spPr>
          <a:xfrm>
            <a:off x="6588000" y="5929200"/>
            <a:ext cx="1555920" cy="520560"/>
          </a:xfrm>
          <a:prstGeom prst="rect">
            <a:avLst/>
          </a:prstGeom>
          <a:solidFill>
            <a:srgbClr val="000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Zei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5:18:48Z</dcterms:created>
  <dc:creator>Ladislav</dc:creator>
  <dc:description/>
  <dc:language>en-US</dc:language>
  <cp:lastModifiedBy>Ladislav Vojáček</cp:lastModifiedBy>
  <dcterms:modified xsi:type="dcterms:W3CDTF">2010-09-21T08:36:26Z</dcterms:modified>
  <cp:revision>34</cp:revision>
  <dc:subject/>
  <dc:title>Dějiny slovenského práva I.</dc:title>
</cp:coreProperties>
</file>