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575-7FC5-4D95-A49E-9C613A41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CB2-7C91-48E9-A275-291144C5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70A-8480-457C-A59B-5E509777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F45-008D-4495-ABB1-CD3CEC32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1FC3-4B0B-4FBB-AC3C-F77DA4F4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C9DE-5D64-4C63-AACD-3024AF86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386B-3336-465C-AD0A-8B7A33BE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2364-F9A9-442C-9E8F-F8BDA4DD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7845-74E4-455A-97D0-C5EDBBA7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8E6F-84D9-4F09-B103-85A50DC8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150A-FA40-4688-AD4C-B14800C5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B25-A119-43ED-8CE3-48CF5762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3FEF-850C-4E24-94C6-65E37848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3692-EDF5-411F-914B-3B50C6AD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8A2C-B110-4796-A1D8-65956EB5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087C-3CF0-414A-A3BD-A8C0DEF6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A694-DC40-4956-8E8B-7A5FDC4A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095-A8B2-4D13-9EDC-0D759163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D0D-FA55-4F63-9E51-104D3BC8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D90-AE99-4F15-80C6-01E6E411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2AC-EA22-4699-8B94-C62175D8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8CA-DBD6-4FF7-A35D-F7BC1B52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515-900B-402E-AA06-DE5EC615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67E0-06D3-4FD9-A036-1F20E73F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87CF-542C-4965-99DC-F9172828687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9F9B-5DC6-48B1-B708-F0B293AC991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tní škola trestního práva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ávnická fakulta MU v Brně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1. 9. 2010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K a m i l a   B u b e l o v á :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Část první: Charakter, zásady a principy římského trestního práva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Část druhá: Sexuální trestné činy v římském právu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rajní nouze a nutná obrana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Základy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krajní nouze a nutné obran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Arma in armatos sumere iura sinunt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Ovidius) – Právo dovoluje chopit se zbraní proti ozbrojeným (</a:t>
            </a: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vim vi repellere licet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Adversus periculum naturalis ratio permittit se defender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Gaius) – proti nebezpečí je přirozeně dovoleno se brán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ezpráví neospravedlňuje bezpráví (</a:t>
            </a: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iniuria non excusat iniuriam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Illum qui vim infert, ferire conceditur, si tuendi dumtaxat, non etiam ulciscendi causa factum sit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Paulus) – v sebeobraně lze poranit útočníka, nikoli ze ms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oho, kdo zabil člověka, lze osvobodit, nespáchal-li to s úmyslem zabít – </a:t>
            </a: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Eum, qui hominem occidit, si non occidendi animo hoc admisit, absolvi pos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kolnosti zločinu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okud mu kopí z ruky spíše vypadlo, než že by je hodil, vykoupí se beránke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e vinen, kdo někoho zranil ve hře – </a:t>
            </a: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Nam ludus quoque noxius in culpa est.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(Paulu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Zločin se projednává v místě spáchá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ísto spáchání zločinu způsobí, že totéž jednání bude buď krádeží, nebo zločinem proti náboženství, a bude nutno ho vykoupit buď smrtí, anebo menším trestem. – </a:t>
            </a: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Locus facit, ut idem vel furtum vel sacrilegium sit et capite luendum vel minore supplicio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. (Claudius Saturninu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xuální trestné či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tupr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dulter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Corrumpere virgin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Ztráta panenství u Vestál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iolat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tuprum mascul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Crimen ince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enocin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Binae nupti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arakter římského trestního práv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Nutno vnímat v kontextu dané doby a způsobu uvažování tehdejších lid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Vývoj trvající dvě tisíciletí – změna skutkových podst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Veřejnoprávní a soukromoprávní charakter trestání (</a:t>
            </a: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crimina vs. delicta +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extraordinární crimina, např. stellionatu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tarověký člověk jako osoba nábožensky založená – nejstarší crimina sakrální povah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naha o smír s bohy – </a:t>
            </a: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pax deorum, scelus expiabile, inexpiab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Omezování svémoci (rozdíl mezi </a:t>
            </a: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talio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/odveta/ a </a:t>
            </a: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vendetou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/msta/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ěhem hist. vývoje  tři odlišné druhy trestního procesu: komiciální, porotní, císařský (extraordinárn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ásady římského trestního práv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Pravomoc patera familias – </a:t>
            </a:r>
            <a:r>
              <a:rPr b="0" i="1" lang="cs-CZ" sz="2100" spc="-1" strike="noStrike">
                <a:solidFill>
                  <a:srgbClr val="003366"/>
                </a:solidFill>
                <a:latin typeface="Arial"/>
              </a:rPr>
              <a:t>ius vitae necisquae + iudicium domesticum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Veřejné trestní právo odrazem politické moci (boj mezi senátory a jezdci)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3366"/>
                </a:solidFill>
                <a:latin typeface="Arial"/>
              </a:rPr>
              <a:t>Ius provocationis</a:t>
            </a: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, za cís. apelační princip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Sakrální povaha, existence náboženských TČ, </a:t>
            </a:r>
            <a:r>
              <a:rPr b="0" i="1" lang="cs-CZ" sz="2100" spc="-1" strike="noStrike">
                <a:solidFill>
                  <a:srgbClr val="003366"/>
                </a:solidFill>
                <a:latin typeface="Arial"/>
              </a:rPr>
              <a:t>mores maiorum</a:t>
            </a: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 jako pramen práva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Širší spektrum sexuálních trestných činů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Vojenské trestné činy vyhrazeny státu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Polehčující a přitěžující okolnosti (nízký věk, vysoké stáří, duševní choroba, zbraně, míra zavinění, donucení…) </a:t>
            </a:r>
            <a:r>
              <a:rPr b="0" lang="cs-CZ" sz="2100" spc="-1" strike="noStrike">
                <a:solidFill>
                  <a:srgbClr val="003366"/>
                </a:solidFill>
                <a:latin typeface="Arial"/>
                <a:ea typeface="Arial"/>
              </a:rPr>
              <a:t>→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Vyviňující, polehčující a přitěžující okolnosti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003366"/>
                </a:solidFill>
                <a:latin typeface="Arial"/>
              </a:rPr>
              <a:t>Vina za zločin spáchaný z donucení postihuje původce</a:t>
            </a:r>
            <a:r>
              <a:rPr b="0" lang="cs-CZ" sz="17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i="1" lang="cs-CZ" sz="1700" spc="-1" strike="noStrike">
                <a:solidFill>
                  <a:srgbClr val="003366"/>
                </a:solidFill>
                <a:latin typeface="Arial"/>
              </a:rPr>
              <a:t>Ac auctores redit sceleris coacti culpa</a:t>
            </a:r>
            <a:r>
              <a:rPr b="0" lang="cs-CZ" sz="1700" spc="-1" strike="noStrike">
                <a:solidFill>
                  <a:srgbClr val="003366"/>
                </a:solidFill>
                <a:latin typeface="Arial"/>
              </a:rPr>
              <a:t> (Seneca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366"/>
                </a:solidFill>
                <a:latin typeface="Arial"/>
              </a:rPr>
              <a:t>Šílenci jsou dostatečně trestáni svým šílenstvím – </a:t>
            </a:r>
            <a:r>
              <a:rPr b="0" i="1" lang="cs-CZ" sz="1700" spc="-1" strike="noStrike">
                <a:solidFill>
                  <a:srgbClr val="003366"/>
                </a:solidFill>
                <a:latin typeface="Arial"/>
              </a:rPr>
              <a:t>Furiosi solo furore puniuntur</a:t>
            </a:r>
            <a:r>
              <a:rPr b="0" lang="cs-CZ" sz="1700" spc="-1" strike="noStrike">
                <a:solidFill>
                  <a:srgbClr val="003366"/>
                </a:solidFill>
                <a:latin typeface="Arial"/>
              </a:rPr>
              <a:t> (Modestinus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366"/>
                </a:solidFill>
                <a:latin typeface="Arial"/>
              </a:rPr>
              <a:t>Děti a dětskému věku blízcí nemají ještě rozumové schopnosti – </a:t>
            </a:r>
            <a:r>
              <a:rPr b="0" i="1" lang="cs-CZ" sz="1700" spc="-1" strike="noStrike">
                <a:solidFill>
                  <a:srgbClr val="003366"/>
                </a:solidFill>
                <a:latin typeface="Arial"/>
              </a:rPr>
              <a:t>Infans et qui infanti proximus non multum a furioso differt, quia huius aetatis pupilli nullum intellectum habent.</a:t>
            </a:r>
            <a:r>
              <a:rPr b="0" lang="cs-CZ" sz="1700" spc="-1" strike="noStrike">
                <a:solidFill>
                  <a:srgbClr val="003366"/>
                </a:solidFill>
                <a:latin typeface="Arial"/>
              </a:rPr>
              <a:t> (Gaius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366"/>
                </a:solidFill>
                <a:latin typeface="Arial"/>
              </a:rPr>
              <a:t>U malých dětí není vina -  </a:t>
            </a:r>
            <a:r>
              <a:rPr b="0" i="1" lang="cs-CZ" sz="1700" spc="-1" strike="noStrike">
                <a:solidFill>
                  <a:srgbClr val="003366"/>
                </a:solidFill>
                <a:latin typeface="Arial"/>
              </a:rPr>
              <a:t>In parvulis nulla deprehenditur culpa</a:t>
            </a:r>
            <a:r>
              <a:rPr b="0" lang="cs-CZ" sz="1700" spc="-1" strike="noStrike">
                <a:solidFill>
                  <a:srgbClr val="003366"/>
                </a:solidFill>
                <a:latin typeface="Arial"/>
              </a:rPr>
              <a:t> (Marcianus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366"/>
                </a:solidFill>
                <a:latin typeface="Arial"/>
              </a:rPr>
              <a:t>Těžkou urážkou je, páchá-li se veřejně nebo na osobě státního úředníka (Gaius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366"/>
                </a:solidFill>
                <a:latin typeface="Arial"/>
              </a:rPr>
              <a:t>Osobám sešlým věkem se leccos promíjí – </a:t>
            </a:r>
            <a:r>
              <a:rPr b="0" i="1" lang="cs-CZ" sz="1700" spc="-1" strike="noStrike">
                <a:solidFill>
                  <a:srgbClr val="003366"/>
                </a:solidFill>
                <a:latin typeface="Arial"/>
              </a:rPr>
              <a:t>Ignoscitur his, qui aetate defecti sunt</a:t>
            </a:r>
            <a:r>
              <a:rPr b="0" lang="cs-CZ" sz="1700" spc="-1" strike="noStrike">
                <a:solidFill>
                  <a:srgbClr val="003366"/>
                </a:solidFill>
                <a:latin typeface="Arial"/>
              </a:rPr>
              <a:t> (Ulpianus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003366"/>
                </a:solidFill>
                <a:latin typeface="Arial"/>
              </a:rPr>
              <a:t>Fere in omnibus poenalibus iudiciis et aetati et imprudentiae succuritur</a:t>
            </a:r>
            <a:r>
              <a:rPr b="0" lang="cs-CZ" sz="1700" spc="-1" strike="noStrike">
                <a:solidFill>
                  <a:srgbClr val="003366"/>
                </a:solidFill>
                <a:latin typeface="Arial"/>
              </a:rPr>
              <a:t> (Paulus) – Skoro ve všech trestních věcech se bere ohled na na věk a nezkušenost obžalovaného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366"/>
                </a:solidFill>
                <a:latin typeface="Arial"/>
              </a:rPr>
              <a:t>Hněv je krátké šílenství – </a:t>
            </a:r>
            <a:r>
              <a:rPr b="0" i="1" lang="cs-CZ" sz="1700" spc="-1" strike="noStrike">
                <a:solidFill>
                  <a:srgbClr val="003366"/>
                </a:solidFill>
                <a:latin typeface="Arial"/>
              </a:rPr>
              <a:t>Ira furor brevis est</a:t>
            </a:r>
            <a:r>
              <a:rPr b="0" lang="cs-CZ" sz="17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na a tres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3366"/>
                </a:solidFill>
                <a:latin typeface="Arial"/>
              </a:rPr>
              <a:t>Až středověkého původu jsou zásady Nullum crimen sine lege a Nulla poena sine lege (nebo novověký zákaz retroaktivity), ale </a:t>
            </a:r>
            <a:r>
              <a:rPr b="0" lang="cs-CZ" sz="1900" spc="-1" strike="noStrike" u="sng">
                <a:solidFill>
                  <a:srgbClr val="003366"/>
                </a:solidFill>
                <a:uFillTx/>
                <a:latin typeface="Arial"/>
              </a:rPr>
              <a:t>základ presumpce neviny položen:</a:t>
            </a:r>
            <a:r>
              <a:rPr b="0" lang="cs-CZ" sz="1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3366"/>
                </a:solidFill>
                <a:latin typeface="Arial"/>
              </a:rPr>
              <a:t>Bonus quilibet preaesumitur, nisi contrarium probetur</a:t>
            </a:r>
            <a:r>
              <a:rPr b="0" lang="cs-CZ" sz="1900" spc="-1" strike="noStrike">
                <a:solidFill>
                  <a:srgbClr val="003366"/>
                </a:solidFill>
                <a:latin typeface="Arial"/>
              </a:rPr>
              <a:t> – Každý je považován za dobrého, dokud se neprokáže opak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3366"/>
                </a:solidFill>
                <a:latin typeface="Arial"/>
              </a:rPr>
              <a:t>Ibi sit poena, ubi et noxa</a:t>
            </a:r>
            <a:r>
              <a:rPr b="0" lang="cs-CZ" sz="1900" spc="-1" strike="noStrike">
                <a:solidFill>
                  <a:srgbClr val="003366"/>
                </a:solidFill>
                <a:latin typeface="Arial"/>
              </a:rPr>
              <a:t> – Tam budiž trest, kde je i vina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3366"/>
                </a:solidFill>
                <a:latin typeface="Arial"/>
              </a:rPr>
              <a:t>Je možný podvod (fraus) bez trestu, ale ne trest bez podvodu – </a:t>
            </a:r>
            <a:r>
              <a:rPr b="0" i="1" lang="cs-CZ" sz="1900" spc="-1" strike="noStrike">
                <a:solidFill>
                  <a:srgbClr val="003366"/>
                </a:solidFill>
                <a:latin typeface="Arial"/>
              </a:rPr>
              <a:t>Fraus sine poena esse potest, poena sine fraude esse non potest.</a:t>
            </a:r>
            <a:r>
              <a:rPr b="0" lang="cs-CZ" sz="1900" spc="-1" strike="noStrike">
                <a:solidFill>
                  <a:srgbClr val="003366"/>
                </a:solidFill>
                <a:latin typeface="Arial"/>
              </a:rPr>
              <a:t> (Ulpianus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3366"/>
                </a:solidFill>
                <a:latin typeface="Arial"/>
              </a:rPr>
              <a:t>K hrdelnímu trestu nelze odsoudit v nepřítomnosti – </a:t>
            </a:r>
            <a:r>
              <a:rPr b="0" i="1" lang="cs-CZ" sz="1900" spc="-1" strike="noStrike">
                <a:solidFill>
                  <a:srgbClr val="003366"/>
                </a:solidFill>
                <a:latin typeface="Arial"/>
              </a:rPr>
              <a:t>In causa capitali absens nemo damnatur</a:t>
            </a:r>
            <a:r>
              <a:rPr b="0" lang="cs-CZ" sz="1900" spc="-1" strike="noStrike">
                <a:solidFill>
                  <a:srgbClr val="003366"/>
                </a:solidFill>
                <a:latin typeface="Arial"/>
              </a:rPr>
              <a:t> (Paul. Sent.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3366"/>
                </a:solidFill>
                <a:latin typeface="Arial"/>
              </a:rPr>
              <a:t>V trestních věcech musí být důkazy jasné – </a:t>
            </a:r>
            <a:r>
              <a:rPr b="0" i="1" lang="cs-CZ" sz="1900" spc="-1" strike="noStrike">
                <a:solidFill>
                  <a:srgbClr val="003366"/>
                </a:solidFill>
                <a:latin typeface="Arial"/>
              </a:rPr>
              <a:t>In criminalibus probationes debent esse luce clariores</a:t>
            </a:r>
            <a:r>
              <a:rPr b="0" lang="cs-CZ" sz="1900" spc="-1" strike="noStrike">
                <a:solidFill>
                  <a:srgbClr val="003366"/>
                </a:solidFill>
                <a:latin typeface="Arial"/>
              </a:rPr>
              <a:t> (nad slunce jasnější) – tj. z toho se vyvinula zásada In dubio pro reo; o tom i Paulus: </a:t>
            </a:r>
            <a:r>
              <a:rPr b="0" i="1" lang="cs-CZ" sz="1900" spc="-1" strike="noStrike">
                <a:solidFill>
                  <a:srgbClr val="003366"/>
                </a:solidFill>
                <a:latin typeface="Arial"/>
              </a:rPr>
              <a:t>In obscuro favorabilius</a:t>
            </a:r>
            <a:r>
              <a:rPr b="0" lang="cs-CZ" sz="1900" spc="-1" strike="noStrike">
                <a:solidFill>
                  <a:srgbClr val="003366"/>
                </a:solidFill>
                <a:latin typeface="Arial"/>
              </a:rPr>
              <a:t> (V nejasných záležitostech postupovat mírněji)</a:t>
            </a:r>
            <a:r>
              <a:rPr b="0" lang="cs-CZ" sz="19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chatel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 u="sng">
                <a:solidFill>
                  <a:srgbClr val="003366"/>
                </a:solidFill>
                <a:uFillTx/>
                <a:latin typeface="Arial"/>
              </a:rPr>
              <a:t>Osobní odpovědnost</a:t>
            </a: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 za zločin: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3366"/>
                </a:solidFill>
                <a:latin typeface="Arial"/>
              </a:rPr>
              <a:t>Delicta parentum liberis non nocent</a:t>
            </a: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 – zločiny rodičů nejsou na škodu dětem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3366"/>
                </a:solidFill>
                <a:latin typeface="Arial"/>
              </a:rPr>
              <a:t>Crimen vel poena paterna nulla maculam filio infligere potest: namque unusquisque ex suo admisso sorti subicitur nec alieni criminis successor constituitur.</a:t>
            </a: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 – Zločin ani trest otce nemůže poskvrnit syna, neboť každý nese důsledky svého jednání a nikdo se nestává dědicem cizího zločinu. (Callistratus)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3366"/>
                </a:solidFill>
                <a:latin typeface="Arial"/>
              </a:rPr>
              <a:t>Extinguitur crimen mortalitate, nisi forte quis maiestatis reus fuit</a:t>
            </a: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 (Ulpián) – Zločin se zahlazuje smrtí, pokud nešlo o velezradu (zde konfiskace)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Rovnost osob: </a:t>
            </a:r>
            <a:r>
              <a:rPr b="0" i="1" lang="cs-CZ" sz="2100" spc="-1" strike="noStrike">
                <a:solidFill>
                  <a:srgbClr val="003366"/>
                </a:solidFill>
                <a:latin typeface="Arial"/>
              </a:rPr>
              <a:t>In iudiciis non est acceptio personarum habenda</a:t>
            </a: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 – Na soudech se na postavení nebere zřetel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uzování míry zavinění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Rozlišování </a:t>
            </a:r>
            <a:r>
              <a:rPr b="0" lang="cs-CZ" sz="2200" spc="-1" strike="noStrike" u="sng">
                <a:solidFill>
                  <a:srgbClr val="003366"/>
                </a:solidFill>
                <a:uFillTx/>
                <a:latin typeface="Arial"/>
              </a:rPr>
              <a:t>úmyslu a nedbalosti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, rozlišování </a:t>
            </a:r>
            <a:r>
              <a:rPr b="0" lang="cs-CZ" sz="2200" spc="-1" strike="noStrike" u="sng">
                <a:solidFill>
                  <a:srgbClr val="003366"/>
                </a:solidFill>
                <a:uFillTx/>
                <a:latin typeface="Arial"/>
              </a:rPr>
              <a:t>intenzity činu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 a míry </a:t>
            </a:r>
            <a:r>
              <a:rPr b="0" lang="cs-CZ" sz="2200" spc="-1" strike="noStrike" u="sng">
                <a:solidFill>
                  <a:srgbClr val="003366"/>
                </a:solidFill>
                <a:uFillTx/>
                <a:latin typeface="Arial"/>
              </a:rPr>
              <a:t>společenské nebezpečnosti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Odlišen úmysl od dokonání – samotný úmysl není trestný: </a:t>
            </a:r>
            <a:r>
              <a:rPr b="0" i="1" lang="cs-CZ" sz="2200" spc="-1" strike="noStrike">
                <a:solidFill>
                  <a:srgbClr val="003366"/>
                </a:solidFill>
                <a:latin typeface="Arial"/>
              </a:rPr>
              <a:t>Cogitationis poenam nemo patitur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 (Ulpián) Zlý úmysl se nepředpokládá – </a:t>
            </a:r>
            <a:r>
              <a:rPr b="0" i="1" lang="cs-CZ" sz="2200" spc="-1" strike="noStrike">
                <a:solidFill>
                  <a:srgbClr val="003366"/>
                </a:solidFill>
                <a:latin typeface="Arial"/>
              </a:rPr>
              <a:t>Dolus non praesumitur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 (Ulpián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Na každý čin je samostatný trest</a:t>
            </a:r>
            <a:r>
              <a:rPr b="0" i="1" lang="cs-CZ" sz="2200" spc="-1" strike="noStrike">
                <a:solidFill>
                  <a:srgbClr val="003366"/>
                </a:solidFill>
                <a:latin typeface="Arial"/>
              </a:rPr>
              <a:t> – Ex singulis causis singulae poenae irrogantur 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(Macer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Vyšší intenzita útoku je se zbraní (ozbrojený člověk nebo shluk lidí), tj vším, čím lze škodit (Paulus a Ulpianus) – </a:t>
            </a:r>
            <a:r>
              <a:rPr b="0" i="1" lang="cs-CZ" sz="2200" spc="-1" strike="noStrike">
                <a:solidFill>
                  <a:srgbClr val="003366"/>
                </a:solidFill>
                <a:latin typeface="Arial"/>
              </a:rPr>
              <a:t>Arma sunt omnia tela, quid et aliud nocere potest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V trestních věcech se má zákon vykládat shovívavěji</a:t>
            </a:r>
            <a:r>
              <a:rPr b="0" i="1" lang="cs-CZ" sz="2200" spc="-1" strike="noStrike">
                <a:solidFill>
                  <a:srgbClr val="003366"/>
                </a:solidFill>
                <a:latin typeface="Arial"/>
              </a:rPr>
              <a:t> – In poenalibus causis benignius interpretandum est 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(Paulus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pracování pojmů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Rozlišování pojmů (příklady): Tulák je ten, kdo se dlouhý čas potuluje a pak se sám vrátí do vojenského tábora, ale zběh ten, kdo je do tábora po jeho opuštění zpět přiveden (</a:t>
            </a:r>
            <a:r>
              <a:rPr b="0" i="1" lang="cs-CZ" sz="2200" spc="-1" strike="noStrike">
                <a:solidFill>
                  <a:srgbClr val="003366"/>
                </a:solidFill>
                <a:latin typeface="Arial"/>
              </a:rPr>
              <a:t>emansor vs.desertor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; Modestinus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Něco jiného je krást a něco jiného loupit: </a:t>
            </a:r>
            <a:r>
              <a:rPr b="0" i="1" lang="cs-CZ" sz="2200" spc="-1" strike="noStrike">
                <a:solidFill>
                  <a:srgbClr val="003366"/>
                </a:solidFill>
                <a:latin typeface="Arial"/>
              </a:rPr>
              <a:t>Aliud esse rapi, aliud amoveri palam est, si quidem amoveri aliquid etiam sine vi possit, raptu autem sine vi non potest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 (Ulpián) – ukrást něco lze i bez násilí, uloupit však bez násilí nelz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Něco jiného je zatajit, něco jiného zamlčet: </a:t>
            </a:r>
            <a:r>
              <a:rPr b="0" i="1" lang="cs-CZ" sz="2200" spc="-1" strike="noStrike">
                <a:solidFill>
                  <a:srgbClr val="003366"/>
                </a:solidFill>
                <a:latin typeface="Arial"/>
              </a:rPr>
              <a:t>Aliud est celare, aliud tacere. (VYSVĚTLETE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3366"/>
                </a:solidFill>
                <a:latin typeface="Arial"/>
              </a:rPr>
              <a:t>Odlišení stupra od adulteria (D 48. 5. 6. 1. Papinianus) – smilstvo s pannou nebo vdovou, cizoložství s vdanou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působy spáchání trestného činu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Zločin může </a:t>
            </a:r>
            <a:r>
              <a:rPr b="0" lang="cs-CZ" sz="2100" spc="-1" strike="noStrike" u="sng">
                <a:solidFill>
                  <a:srgbClr val="003366"/>
                </a:solidFill>
                <a:uFillTx/>
                <a:latin typeface="Arial"/>
              </a:rPr>
              <a:t>spočívat v činu, výroku, písemnosti, radě: tj. pachatel má spolupachatele</a:t>
            </a: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, který je buď podílníkem,  účastníkem nebo pomocníkem: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3366"/>
                </a:solidFill>
                <a:latin typeface="Arial"/>
              </a:rPr>
              <a:t>Aut facta puniuntur, aut dicta, aut scripta, aut consilia</a:t>
            </a: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 (Claudius Saturninus). Trestají se činy, nebo výroky, nebo písemnosti, nebo rady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Zatajovat podvod je podvod – </a:t>
            </a:r>
            <a:r>
              <a:rPr b="0" i="1" lang="cs-CZ" sz="2100" spc="-1" strike="noStrike">
                <a:solidFill>
                  <a:srgbClr val="003366"/>
                </a:solidFill>
                <a:latin typeface="Arial"/>
              </a:rPr>
              <a:t>Celare fraudem fraus est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Jednající a jednání schvalující nechť jsou postiženi stejným trestem</a:t>
            </a:r>
            <a:r>
              <a:rPr b="0" i="1" lang="cs-CZ" sz="2100" spc="-1" strike="noStrike">
                <a:solidFill>
                  <a:srgbClr val="003366"/>
                </a:solidFill>
                <a:latin typeface="Arial"/>
              </a:rPr>
              <a:t> – Agentes et consentientes pari poena plectentur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3366"/>
                </a:solidFill>
                <a:latin typeface="Arial"/>
              </a:rPr>
              <a:t>Vedlejší pachatel je trestán jako hlavní</a:t>
            </a:r>
            <a:r>
              <a:rPr b="0" i="1" lang="cs-CZ" sz="2100" spc="-1" strike="noStrike">
                <a:solidFill>
                  <a:srgbClr val="003366"/>
                </a:solidFill>
                <a:latin typeface="Arial"/>
              </a:rPr>
              <a:t> – Accesorius sequitur naturam sui principalis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07:53:14Z</dcterms:created>
  <dc:creator>lajos</dc:creator>
  <dc:description/>
  <dc:language>en-US</dc:language>
  <cp:lastModifiedBy>lajos</cp:lastModifiedBy>
  <dcterms:modified xsi:type="dcterms:W3CDTF">2010-09-05T08:24:20Z</dcterms:modified>
  <cp:revision>3</cp:revision>
  <dc:subject/>
  <dc:title>Letní škola trestního práva Právnická fakulta MU v Brně  21. 9. 2010</dc:title>
</cp:coreProperties>
</file>