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13CB-66FA-4E2A-834F-41BDEE48D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B138-4B93-4EE0-AD87-46DA79D64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B353-F8BC-43A7-ADDB-E547867FB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8B2C-DD63-44B3-9BCE-9A49CC785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CF4EF-0604-479F-85BA-3B4077B81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2CD2-825E-43E7-AAF5-89CABCDF1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91E9E-E98D-4CCE-AAFA-7E0053712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2135F-B8FA-4BC4-A028-434E585198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69701-B916-4072-8A4B-842FAB41C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20FA6-5315-48D7-8E1D-6EC58180D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FCBF-7826-43E3-818C-4351C047A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1C7E-4073-45F1-A633-3018BE291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44A11-9F70-4E0C-A28A-6E83E76F0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F74E0-A4F0-4CA2-81B5-A6B6F7E55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070E-0382-44D5-BB12-2157A2F25A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0352B-61A6-42EF-8FF8-B18B46574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C3834-7FD2-4268-B81C-383D135E88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0E2F-8F46-4C2B-B5DA-8659FC5669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1C79-95B5-4AC4-9F30-3A2FADB0E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007C-C217-4C78-BD47-EF5517350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6214-C1DF-4069-82B0-BCF8B0FB1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1BEC-34F9-4E8B-A104-C597C10FD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544F-70C2-4652-BEC2-F16E6A689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F0E5-7B33-4723-940B-B31581FFF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6480"/>
            <a:ext cx="9144000" cy="88920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98200" y="6442200"/>
            <a:ext cx="6837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2296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BFB-F9F5-47E5-91CA-404D9D545601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162000"/>
            <a:ext cx="216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c"/>
                </a:solidFill>
                <a:latin typeface="Trebuchet MS"/>
              </a:rPr>
              <a:t>www.law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705040" y="214200"/>
            <a:ext cx="2422440" cy="406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5800" y="-6480"/>
            <a:ext cx="2340000" cy="884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91440" y="81900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2704680" y="6442200"/>
            <a:ext cx="49611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28000" y="6442200"/>
            <a:ext cx="658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AEF-E04A-4CF6-8034-EC4DFB1B6616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76c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ftr" idx="5"/>
          </p:nvPr>
        </p:nvSpPr>
        <p:spPr>
          <a:xfrm>
            <a:off x="2704680" y="6442200"/>
            <a:ext cx="496116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d1e1e"/>
                </a:solidFill>
                <a:latin typeface="Trebuchet MS"/>
              </a:rPr>
              <a:t>Click to edit the outline text format</a:t>
            </a:r>
            <a:endParaRPr b="1" lang="en-US" sz="3600" spc="-1" strike="noStrike">
              <a:solidFill>
                <a:srgbClr val="7d1e1e"/>
              </a:solidFill>
              <a:latin typeface="Trebuchet MS"/>
            </a:endParaRPr>
          </a:p>
          <a:p>
            <a:pPr lvl="1" marL="826920" indent="-285480">
              <a:spcBef>
                <a:spcPts val="649"/>
              </a:spcBef>
              <a:buClr>
                <a:srgbClr val="7d1e1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575"/>
              </a:spcBef>
              <a:buClr>
                <a:srgbClr val="7d1e1e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4304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000" y="3141360"/>
            <a:ext cx="61196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5200" spc="-1" strike="noStrike">
                <a:solidFill>
                  <a:srgbClr val="000000"/>
                </a:solidFill>
                <a:latin typeface="Trebuchet MS"/>
              </a:rPr>
              <a:t>Meziválečné trestní právo</a:t>
            </a:r>
            <a:r>
              <a:rPr b="0" i="1" lang="en-US" sz="3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000"/>
            </a:br>
            <a:r>
              <a:rPr b="1" i="1" lang="en-US" sz="2200" spc="-1" strike="noStrike">
                <a:solidFill>
                  <a:srgbClr val="8c3500"/>
                </a:solidFill>
                <a:latin typeface="Trebuchet MS"/>
              </a:rPr>
              <a:t>(dr. Ondřej Horák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rebuchet MS"/>
              </a:rPr>
              <a:t>Jaroslav Kallab (1879-1942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28814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32108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profesor brněnské právnické fakulty (obor trestní právo a řízení, dějiny právní filosofie a mezinárodní právo), od r. 1919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1920-21, 1929-30 a 1937-38 děkan PrF MU, 1927-28 rektor MU v Brně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inicioval a vybudoval při právnické fakultě Ústav pro trestní právo a  řízení, resp. pro kriminalogii (1928, 1934)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autor vládního návrhu zákona o trestním soudnictví nad mládeží (1931)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ve svých pracích se profiloval jako právní filosof a teoretik dějin právní filosofi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6073-FAEE-4A71-B4E4-98A7AD239F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Zvláštní část</a:t>
            </a:r>
            <a:r>
              <a:rPr b="0" lang="en-US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700360" y="3141360"/>
            <a:ext cx="5968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76c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68676c"/>
                </a:solidFill>
                <a:latin typeface="Trebuchet MS"/>
              </a:rPr>
              <a:t>Vybraná témata</a:t>
            </a:r>
            <a:r>
              <a:rPr b="0" lang="en-US" sz="2400" spc="-1" strike="noStrike">
                <a:solidFill>
                  <a:srgbClr val="68676c"/>
                </a:solidFill>
                <a:latin typeface="Trebuchet MS"/>
              </a:rPr>
              <a:t> (3+1)</a:t>
            </a: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BE77-6728-4C2A-8F69-B05AF471E1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Zvláštní část: vybraná téma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(3+1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99308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1)</a:t>
            </a:r>
            <a:r>
              <a:rPr b="0" i="1" lang="cs-CZ" sz="2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Trest smrti a milost</a:t>
            </a:r>
            <a:r>
              <a:rPr b="0" i="1" lang="cs-CZ" sz="2300" spc="-1" strike="noStrike">
                <a:solidFill>
                  <a:srgbClr val="000000"/>
                </a:solidFill>
                <a:latin typeface="Trebuchet MS"/>
              </a:rPr>
              <a:t> (právo a filosofie), hmotné právo</a:t>
            </a: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75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2)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 Porotní soudy </a:t>
            </a:r>
            <a:r>
              <a:rPr b="0" i="1" lang="cs-CZ" sz="2300" spc="-1" strike="noStrike">
                <a:solidFill>
                  <a:srgbClr val="000000"/>
                </a:solidFill>
                <a:latin typeface="Trebuchet MS"/>
              </a:rPr>
              <a:t>(právo a veřejnost),</a:t>
            </a: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 procesní právo, účast veřejnosti, občanská kontrola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75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3) 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Trestnost homosexuality</a:t>
            </a: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cs-CZ" sz="2300" spc="-1" strike="noStrike">
                <a:solidFill>
                  <a:srgbClr val="000000"/>
                </a:solidFill>
                <a:latin typeface="Trebuchet MS"/>
              </a:rPr>
              <a:t>(právo a morálka)</a:t>
            </a: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, náboženské názory, pokusy o odstranění (úvahy de lege ferenda), návrh nového trestního zákona (1926)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75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B) 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Nedovolené pomníky: osudy pomníků Josefa II. </a:t>
            </a:r>
            <a:r>
              <a:rPr b="0" i="1" lang="cs-CZ" sz="2300" spc="-1" strike="noStrike">
                <a:solidFill>
                  <a:srgbClr val="000000"/>
                </a:solidFill>
                <a:latin typeface="Trebuchet MS"/>
              </a:rPr>
              <a:t>(právo a ideologie)</a:t>
            </a:r>
            <a:r>
              <a:rPr b="0" lang="cs-CZ" sz="2300" spc="-1" strike="noStrike">
                <a:solidFill>
                  <a:srgbClr val="000000"/>
                </a:solidFill>
                <a:latin typeface="Trebuchet MS"/>
              </a:rPr>
              <a:t>, zákon na ochranu republiky, odstraňování pomníků Josefa II. (Cheb, Brno), menšiny, symboličnost, pohled právníka a pohled historika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3C25-64EA-4D22-8027-77F0542543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1) Trest smrti a milo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8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a) Trest smrti:</a:t>
            </a:r>
            <a:r>
              <a:rPr b="1" i="1" lang="cs-CZ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uh. TrZ pouze za dokonanou vraždu, rak. TrZ také na loupežné zabití, zlomyslné poškození cizího majetku a žhářství, pokud tím byla způsoben sm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výkon trestu smrti oběšením (uvnitř vězeňské budov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anketa 1923 (Emanuel Chalupný): 350 dotázaných osobností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argumenty zastánců (</a:t>
            </a:r>
            <a:r>
              <a:rPr b="0" i="1" lang="cs-CZ" sz="2200" spc="-1" strike="noStrike">
                <a:solidFill>
                  <a:srgbClr val="000000"/>
                </a:solidFill>
                <a:latin typeface="Trebuchet MS"/>
              </a:rPr>
              <a:t>mortikalisté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): nepostradatelnost - absolutní ochrana před těžkými a nenapravitelnými zločinci, význam generální prevence, finanční úspor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argumenty odpůrců (</a:t>
            </a:r>
            <a:r>
              <a:rPr b="0" i="1" lang="cs-CZ" sz="2200" spc="-1" strike="noStrike">
                <a:solidFill>
                  <a:srgbClr val="000000"/>
                </a:solidFill>
                <a:latin typeface="Trebuchet MS"/>
              </a:rPr>
              <a:t>abolicionisté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): mravní principy, právo na život, možnost resocializace, neodstupňovatelnost, postradatelnost/vyvracení generální prevence, justiční omyly či nástroj vypořádání se s politickými odpůrc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v návrhu nového TrZ (1926) jen ve stanném řízení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33D2-9CA6-4DB9-8DF4-76ED3D1750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1) Trest smrti a milo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cs-CZ" sz="2300" spc="-1" strike="noStrike">
                <a:solidFill>
                  <a:srgbClr val="000000"/>
                </a:solidFill>
                <a:latin typeface="Trebuchet MS"/>
              </a:rPr>
              <a:t>b) Udělení milosti:</a:t>
            </a:r>
            <a:r>
              <a:rPr b="0" lang="cs-CZ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cs-CZ" sz="2100" spc="-1" strike="noStrike">
                <a:solidFill>
                  <a:srgbClr val="000000"/>
                </a:solidFill>
                <a:latin typeface="Trebuchet MS"/>
              </a:rPr>
              <a:t>bezpečnostní ventil práva či samokorektiv spravedlnosti </a:t>
            </a:r>
            <a:r>
              <a:rPr b="0" lang="cs-CZ" sz="2100" spc="-1" strike="noStrike">
                <a:solidFill>
                  <a:srgbClr val="000000"/>
                </a:solidFill>
                <a:latin typeface="Trebuchet MS"/>
              </a:rPr>
              <a:t>(Ihering)</a:t>
            </a:r>
            <a:r>
              <a:rPr b="0" lang="cs-CZ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důvod zániku trestnosti, tradiční právo hlavy státu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prameny: Prozatímní ústava 1918 (§ 10 g), Ústavní listina 1920 (§ 64 a 103), TrZ (§ 226 a 529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formy milosti/amnestie: </a:t>
            </a:r>
            <a:r>
              <a:rPr b="0" i="1" lang="cs-CZ" sz="2200" spc="-1" strike="noStrike">
                <a:solidFill>
                  <a:srgbClr val="000000"/>
                </a:solidFill>
                <a:latin typeface="Trebuchet MS"/>
              </a:rPr>
              <a:t>abolice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(potlačení trestního stíhání), </a:t>
            </a:r>
            <a:r>
              <a:rPr b="0" i="1" lang="cs-CZ" sz="2200" spc="-1" strike="noStrike">
                <a:solidFill>
                  <a:srgbClr val="000000"/>
                </a:solidFill>
                <a:latin typeface="Trebuchet MS"/>
              </a:rPr>
              <a:t>agraciace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(milost v užším smyslu), </a:t>
            </a:r>
            <a:r>
              <a:rPr b="0" i="1" lang="cs-CZ" sz="2200" spc="-1" strike="noStrike">
                <a:solidFill>
                  <a:srgbClr val="000000"/>
                </a:solidFill>
                <a:latin typeface="Trebuchet MS"/>
              </a:rPr>
              <a:t>rehabilitace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(zahlazení následků odsouzení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pravidelné udílení milosti mladistvým provinilců v méně závažných případech (1902), soud navrhoval sám bez žádost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éra TGM: 11 vykonaných trestů smrti, 417 udělených milostí, první poprava v ČSR, 9. 1. 1923 v Táboře, dvojnásobná loupežná vražd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4FD1-D126-474D-A1C5-487546253B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2) Porotní soud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ýznamný výdobytek roku 1848, účast veřejnosti, občanská kontrola nad výkonem soudní moci, původně vznikly jako poroty tiskové, 1851/53 zrušeny, 1867/73 opět zaveden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lnily úlohu soudů ve věcech trestních na úrovni sborových soudů první instance (krajské soud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ložení: soudní senát (3 soudci, jeden z nich předsedající) a porota (12 laických členů vybraných losováním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říslušnost: zločiny a přečiny ovlivňující uspořádání veřejných věcí, dále zločiny, za něž zákon stanovil uložení trestu smrti nebo trest odnětí svobody převyšující pět le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E3AB-31BA-4C17-A693-04BC5A78BA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3a) Trestnost homosexuality v 19. a 20. stolet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Homosexualita = chápána jako zločin proti přírodě (obdobně jako smilstvo se zvířat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TrZ 1803 (bez Uher): žalář 6 měsíců až 1 rok (§ 114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rak. TrZ 1852: zločin, žalář 1 až 5 let (§ 129-130)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muži i žen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Uh. TrZ 1878: přečin, žalář 1 roku (§ 241)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pouze muž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ČSR 1918: liberálnější úprava východ, konzervativnější zápa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1925: Druhý sjezd čsl. právníků v Brně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Třetí sekce (trestní právo a řízení), otázka 3b): Otázka trestnosti homosexuality; referent prof. Miřička; 3 práce: František Čerovský, Hugo Bondy, Vojtech Hudec; diskuze; rezoluc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Návrh TrZ 1926: zrušení všeobecné trestnosti homosexualit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99CA-3574-4E40-9014-98AE8D4DD7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55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3b) Trestnost homosexuality v 19. a 20. stolet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1941: zostření trestní praxe během nacistické okupac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TrZ 1950 (č. 86 Sb.): sjednocena/snížena trestní sazba, odnětí svobody až na 1 rok (§ 241), „trestné činy proti důstojnosti člověka“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TrZ 1961 (č. 140 Sb.): zrušení všeobecné trestnosti homosexuality; u kvalifik. skut. podstaty zachována od 1 do 5 let (§ 244): a) hranice 18 let, b) závislost, c) úplata, a d) vzbuzení veřejného pohoršení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Novela TrZ 1990 (č. 175 Sb.): zrovnoprávnění homo- a heterosexuálů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0BC0-C356-49C3-8A86-6D668211E1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Nedovolené pomníky: vandalismus podle zákona?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z. č. 50/1923 Sb. z. a n., </a:t>
            </a:r>
            <a:r>
              <a:rPr b="0" i="1" lang="cs-CZ" sz="2000" spc="-1" strike="noStrike">
                <a:solidFill>
                  <a:srgbClr val="000000"/>
                </a:solidFill>
                <a:latin typeface="Trebuchet MS"/>
              </a:rPr>
              <a:t>na ochranu republiky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§ 26: přestupek „Neodstranění nebo zřízení nedovolených pomníků“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  „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Politický (státní policejní) úřad může naříditi, aby byly odstraněny pomníky, nápisy a jiné památky umístěné na veřejném místě nebo tak, že jsou viditelné z veřejného místa, jsou-li rázu protistátního nebo jsou-li zřízeny některému členu rodin panovavších v Rakousku, Uhersku nebo Rakousku-Uhersku, v říši Německé nebo některému členu dynastií panovavších r. 1914 na půdě říše Německé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Tentýž úřad může také zakázati zřizování takových pomníků, nápisů a památek na příště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Za pomníky nebo památky považují se zejména i poprsí, desky, obrazy, znaky a odznaky. Místem veřejným rozumějí se … … trestá se za přestupek pokutou do 10 000 Kč nebo vězením do tří měsíců neb obojím trestem.“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5141-2910-4556-ACE7-00CCF21713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Osudy pomníků Josefa I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1327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odstranění/stržení soch Josefa II.: 1918-1920-1923 proč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jako první České Budějovice (28. 10. 1918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Děčín (6. 7. 1920, legionáři), sochy jako „rozbuška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Teplice (28. 10. - 11. 11., úřady a legionáři, precedent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Cheb (13.-15. 11.) a Aš (18. 11., při srážkách zemřelo několik lidí) – srážky s vojske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česká reakce na Cheb (16. 11., zábor německého Stavovského divadla v Praz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judikatura: Boh. adm. 4590, 4593, 4594 a zvl. 4595, nařízeno odstranění podstavce (tvoří podstatnou součást pomníků, také zbytek pomníku zůstává „památkou“ dle § 26, (Boh. adm. 4590: „Stadt u. Land Eger 1887“, městská obec CH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E7C1-1229-43B1-AD07-BBC23612D5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02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Nové státy, právní řády, společné problémy?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8066160" cy="37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evropský kontext a vznik Československ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právní kontinuita/diskontinuita, recepce, recepční zákon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právní partikularismus (např. Polsko, Rumunsko, ale i Rakousko), v ČSR dualismus, dočasně trialismus (Hlučínsko, 1920), unifik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revoluční“ právo, „negativní normotvorba“ Nejvyšších soudů, „recepční“ judikatura, teleologické výklad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D05D-8394-44B0-9FB7-F7170B24C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Co vlastně platilo po 28. říjnu 1918…?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Zákon o zřízení samostatného státu čsl. (tzv. recepční norma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ákon Národního výboru čsl. č. 11 Sb. z. a n. ze dne 28. října 191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amostatný stát československý vstoupil v život. Aby byla zachována souvislost dosavadního právního řádu  se stavem novým, aby  nenastaly  zmatky  a  upraven  byl  nerušený přechod k novému státnímu  životu, nařizuje  Národní výbor  jménem československého národa jako vykonavatel státní svrchovanosti toto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Čl.1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átní formu československého státu určí Národní shromáždění ve srozumění s Československou Národní radou v Paříži. Orgánem jednomyslné vůle národa a  také vykonavatelem státní svrchovanosti je Národní výbor.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Čl. 2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Veškeré dosavadní zemské a říšské zákony a nařízení zůstávají prozatím v platnos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Čl. 3 …  Čl. 4 …  Čl.5 … 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63D4-D9D8-4C64-BA8E-F63F80AEE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Hlavní recipované předpis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 českých zemích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restní zákon o zločinech, přečinech a přestupcíc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č. 117/1852 ř. 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restní řá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č. 119/1873 ř. z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b) na Slovensku a Podkarpatské Rusi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restní zákon o zločinech a přečinec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zák. čl. č. 5/1878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restní zákon o přestupcíc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zák. čl. č. 40/1879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zákon o trestním řízení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zák. čl. č. 33/1896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15C0-27E1-4B1F-8380-C299CBB77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rebuchet MS"/>
              </a:rPr>
              <a:t>Důležité trestně-právní předpisy z let 1918-1939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o zákonné ochraně Československé republik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č. 449/1919 Sb.): „autentický výklad“ recepčního zákona; změna výrazů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„rakouský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„uherský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„c. k.“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od. na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„československý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„Československá republika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o podmínečném odsouzení a o podmínečném propuštění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      (č. 562/1919 Sb.): především v českých zemích, uherské trestní právo tyto instituty již znal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na ochranu republik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č. 50/1923 Sb.) 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ákon o státním soudu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  (č. 51/1923 Sb.):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„mezery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v recipovaném trestním právu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 řízení o trestní soudnictví nad mládeží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č. 48/1931 Sb.): osoby mezi 14. a 18. rokem věku (prováděcí nařízení k němu č. 195/1931 Sb.)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 státním vězení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č. 123/1931 Sb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 ochraně ct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č. 108/1933 Sb.): samostatně a jednotně pro celou  republiku upravil odpovědnost za útoky proti bezpečnosti c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áko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 způsobu ukládání trestu smrti a doživotním trestu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č. 91/1934 Sb.): místo smrti možné doživotí nebo žalář od 15 do 30 le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E488-7F80-4F9E-9A2E-1E9ECC6CB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i="1" lang="en-US" sz="2700" spc="-1" strike="noStrike">
                <a:solidFill>
                  <a:srgbClr val="000000"/>
                </a:solidFill>
                <a:latin typeface="Trebuchet MS"/>
              </a:rPr>
              <a:t>Urážka presidenta republiky“ § 11 z. č. 50/1923 Sb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. Kdo před dvěma nebo více lidmi presidentu republiky nebo jeho náměstku na cti ublíží vyhrůžkou zlého nakládání nebo jiným hrubě zneuctívajícím projevem nebo ho uvede ve veřejný posměch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kdo pronese o něm obvinění, věda, že tím vážně ohrozí jeho čest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trestá se za přestupek vězením od osmi dnů do šesti měsíců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2. Dopustí-li se vinník činu veřejně nebo tváří v tvář presidentu republiky (jeho náměstku) neb opětovně před dvěma nebo více lidmi při různých příležitostech nebo ho tělesně ztýrá, trestá se za přečin vězením od jednoho měsíce do jednoho roku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3. Důkaz pravdy i přesvědčení o pravdě je vylouč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157E-246D-4C31-A493-88BD25B19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Prvorepublikoví student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4640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3 právnické fakulty /české/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3 učebnice a jejich autoři: profesoři Miřička, Milota, Kallab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= nejvýznamnější představitelé meziválečné penalistik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svědectví tehdejšího studenta (1928) Vladimíra Kubeš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semináře z trestního práva u prof. Kallaba: 2 témata/seminární práce: o trestu smrti a porotních soudech (...</a:t>
            </a:r>
            <a:r>
              <a:rPr b="0" i="1" lang="cs-CZ" sz="2000" spc="-1" strike="noStrike">
                <a:solidFill>
                  <a:srgbClr val="000000"/>
                </a:solidFill>
                <a:latin typeface="Trebuchet MS"/>
              </a:rPr>
              <a:t>a chtěl bych to všechno znovu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, s. 16-17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8360" y="1773360"/>
            <a:ext cx="35208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8ADD-6E7D-4751-A53A-D8C87F6D0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rebuchet MS"/>
              </a:rPr>
              <a:t>August Miřička (1863-1946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424836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profesor pražské právnické fakulty (obor trestní právo a řízení), od r. 1907/09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dvacetiletá justiční praxe (soudy, státní zastupitelství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1913-14, 1928-29 děkan PrF UK, 1930-31 rektor UK v Praz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inicioval a vybudoval při právnické fakultě Kriminologický ústav (1926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hlavní autor osnov trestního zákona (1921, 1926), podílel se na řadě dalších zákonů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268800" cy="43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E19D-B33B-4DB6-9949-EF6C54A62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lbert Milota (1877-1940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640" y="1773360"/>
            <a:ext cx="46814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profesor bratislavské právnické fakulty (obor trestní právo a řízení), 1922-39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1911-18 soudce v Domažlicích („chodský soudce“), 1918-22 Ministerstvo spravedlnosti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1925-26 a 1929-30 děkan PrF UK,    1930-31 rektor UK v Bratislavě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inicioval a vybudoval při právnické fakultě Kriminologický ústav (1926)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autorsky se podílel na řadě zákonů, např. o padělání peněz a cenných papírů, o podmíněném odsouzení a propuštění (oba 1919), autor osnovy trestního řádu (1928/1929)</a:t>
            </a:r>
            <a:r>
              <a:rPr b="0" i="1" lang="cs-CZ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rebuchet MS"/>
              </a:rPr>
              <a:t>humánní přístup (např. odmítal trest smrti), současně kladl důraz na ochranu demokracie a republiky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268440" cy="43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957A-1397-41F8-A07D-572E1BA8C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8:34:40Z</dcterms:created>
  <dc:creator>horák</dc:creator>
  <dc:description/>
  <dc:language>en-US</dc:language>
  <cp:lastModifiedBy>horák</cp:lastModifiedBy>
  <dcterms:modified xsi:type="dcterms:W3CDTF">2010-09-06T07:09:10Z</dcterms:modified>
  <cp:revision>34</cp:revision>
  <dc:subject/>
  <dc:title>Nadpis prezentace</dc:title>
</cp:coreProperties>
</file>