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jpeg" ContentType="image/jpeg"/>
  <Override PartName="/ppt/media/image21.png" ContentType="image/png"/>
  <Override PartName="/ppt/media/image8.jpeg" ContentType="image/jpeg"/>
  <Override PartName="/ppt/media/image10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6.png" ContentType="image/png"/>
  <Override PartName="/ppt/media/image36.png" ContentType="image/png"/>
  <Override PartName="/ppt/media/image18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40F5-41F1-4A99-9A3A-D08A0DE1EB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C16E-0BC5-4DCD-AD7F-F59387663F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DEBE-24C3-4FE6-959B-9953304BAC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EB01-B574-4388-8155-BD433BA503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C0B-C5F9-47B2-8164-26EB8F6850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9364-498D-46A9-B35F-A6F9BFFBF7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AF7-7D6E-46E9-B534-E9C73109B9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BF7-ECA0-4783-AFE9-CA849BAA7D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C165-4085-43BE-991E-A23D0F259D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1EB-E093-4ACA-950E-CE1295A384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28A2-26F9-47CE-BF5B-D62657B8E8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818-DD60-4A6B-930D-64358FB483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FC69-2D04-4E6E-B3E7-6E7BE4D827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656-82C9-473C-86E6-99EE9C937C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EB15-46DB-4440-B31D-24224FA779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A1DF-7761-433F-A8BC-4989A7495D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8299-512B-4E0E-AE5E-F77816FA9B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781B-AD62-4CF2-A966-0E2B46E5E6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890-E196-4229-B8A2-8FB5B87A3E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88BE-7481-490C-BBB6-A5FF0C756E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6C9B-C1BF-4AB2-A789-3703B93836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EDAA-7E96-4300-9845-029E974BBE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A1EF-8EE3-4E40-A7C2-6E87C2F96B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6027-338B-43F9-9968-1F9557358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0159-4BF2-4AFB-9AE1-6AED064F7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BD93-074F-4594-A522-36E5A21C8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08A9-61D4-4B1A-8E7F-8DCB1B480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B786-8571-400A-9731-7F7B0D27A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0AC3-BED8-42A8-8EFE-527D5CD56E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973D-143C-403E-84A4-4E2338C372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7DA8A-4DFF-4E1A-BB88-15A5BA972E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DB4FE-9FFA-48BA-9903-D4D66FAFA8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C3A48-6968-4791-A2A7-F1046FA16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823D-3AFF-4634-9BCC-9A66DEBC21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269DA-96DB-41DE-B7D0-5672FA5367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E7C50-4BCC-461B-9ED3-92043C4D10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97E59-CF9E-4B7B-9437-A746511DC3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C2859-AE57-4720-9692-EB1066C868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67BE-2052-4EE0-B614-EB8008420C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19484-E8A1-4952-80D3-248BAA4BAC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97D6-09B1-48D3-A643-AE505B866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AAA1-76A4-481C-9A59-D2ADD8E5C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D858-EADB-40FD-B82D-2794CBE05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790E-4376-4F6A-AEFA-E006041F7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445A-CB04-4AA2-9F07-67B0DD96F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DB6C-3471-4338-9B45-2E018CECB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202A-986D-4C7E-9DDC-CCD03D057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-6480"/>
            <a:ext cx="9144000" cy="88920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98200" y="6442200"/>
            <a:ext cx="6837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Zápatí prezent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2296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332-8275-4032-AF4B-83054BAE6835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6588000" y="162000"/>
            <a:ext cx="216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8676c"/>
                </a:solidFill>
                <a:latin typeface="Trebuchet MS"/>
              </a:rPr>
              <a:t>www.law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8" descr="PF_PPT2"/>
          <p:cNvPicPr/>
          <p:nvPr/>
        </p:nvPicPr>
        <p:blipFill>
          <a:blip r:embed="rId2"/>
          <a:stretch/>
        </p:blipFill>
        <p:spPr>
          <a:xfrm>
            <a:off x="2705040" y="214200"/>
            <a:ext cx="2422440" cy="406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PF_PPT_nahled"/>
          <p:cNvPicPr/>
          <p:nvPr/>
        </p:nvPicPr>
        <p:blipFill>
          <a:blip r:embed="rId3"/>
          <a:stretch/>
        </p:blipFill>
        <p:spPr>
          <a:xfrm>
            <a:off x="415800" y="-6480"/>
            <a:ext cx="2340000" cy="8845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5"/>
          <p:cNvSpPr/>
          <p:nvPr/>
        </p:nvSpPr>
        <p:spPr>
          <a:xfrm>
            <a:off x="6391440" y="81900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2704680" y="6442200"/>
            <a:ext cx="496116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Zápatí prezent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704680" y="3141360"/>
            <a:ext cx="5969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PF_PPT"/>
          <p:cNvPicPr/>
          <p:nvPr/>
        </p:nvPicPr>
        <p:blipFill>
          <a:blip r:embed="rId2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pruh+znak_PF_13_gray5+fialovy_RGB"/>
          <p:cNvPicPr/>
          <p:nvPr/>
        </p:nvPicPr>
        <p:blipFill>
          <a:blip r:embed="rId3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1" descr="pruh+znak_PF_13_gray5+fialovy_RGB"/>
          <p:cNvPicPr/>
          <p:nvPr/>
        </p:nvPicPr>
        <p:blipFill>
          <a:blip r:embed="rId2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PF_PPT"/>
          <p:cNvPicPr/>
          <p:nvPr/>
        </p:nvPicPr>
        <p:blipFill>
          <a:blip r:embed="rId3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6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4"/>
          </p:nvPr>
        </p:nvSpPr>
        <p:spPr>
          <a:xfrm>
            <a:off x="2704680" y="6442200"/>
            <a:ext cx="49611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Zápatí prezent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8028000" y="6442200"/>
            <a:ext cx="658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F4F-BBDA-4F12-8DDA-FD7894DFFBBE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28920" y="2205000"/>
            <a:ext cx="6500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cs-CZ" sz="4800" spc="-1" strike="noStrike">
                <a:solidFill>
                  <a:srgbClr val="000000"/>
                </a:solidFill>
                <a:latin typeface="Trebuchet MS"/>
              </a:rPr>
              <a:t>Nacistické </a:t>
            </a:r>
            <a:br>
              <a:rPr sz="4800"/>
            </a:br>
            <a:r>
              <a:rPr b="1" lang="cs-CZ" sz="4800" spc="-1" strike="noStrike">
                <a:solidFill>
                  <a:srgbClr val="000000"/>
                </a:solidFill>
                <a:latin typeface="Trebuchet MS"/>
              </a:rPr>
              <a:t>trestní právo </a:t>
            </a:r>
            <a:br>
              <a:rPr sz="4800"/>
            </a:br>
            <a:r>
              <a:rPr b="1" lang="cs-CZ" sz="4800" spc="-1" strike="noStrike">
                <a:solidFill>
                  <a:srgbClr val="000000"/>
                </a:solidFill>
                <a:latin typeface="Trebuchet MS"/>
              </a:rPr>
              <a:t>a trestní řízení</a:t>
            </a:r>
            <a:br>
              <a:rPr sz="4800"/>
            </a:br>
            <a:br>
              <a:rPr sz="4800"/>
            </a:br>
            <a:r>
              <a:rPr b="0" lang="cs-CZ" sz="2800" spc="-1" strike="noStrike" u="sng">
                <a:solidFill>
                  <a:srgbClr val="000000"/>
                </a:solidFill>
                <a:uFillTx/>
                <a:latin typeface="Trebuchet MS"/>
              </a:rPr>
              <a:t>JUDr. Jaromír  Tauchen, Ph.D.,LL.M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874F-C4FD-42E1-AC08-C4098154C90D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85480" y="1052640"/>
            <a:ext cx="8643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80379b"/>
                </a:solidFill>
                <a:uFillTx/>
                <a:latin typeface="Trebuchet MS"/>
              </a:rPr>
              <a:t>a) Případ van der Lubb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proces s pachateli požáru říšského sněmu – Marinus van der Lubb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nařízení k ochraně národa a státu z 28. února 1933         možno uložit trest smrti za žhářství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nařízení o uložení a výkonu trestu smrti (</a:t>
            </a: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„lex van der Lubbe“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)     zpětná působnos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soudní proces probíhal před Říšským soud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Šipka doprava 3"/>
          <p:cNvSpPr/>
          <p:nvPr/>
        </p:nvSpPr>
        <p:spPr>
          <a:xfrm>
            <a:off x="7667640" y="321300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Šipka doprava 4"/>
          <p:cNvSpPr/>
          <p:nvPr/>
        </p:nvSpPr>
        <p:spPr>
          <a:xfrm>
            <a:off x="5940360" y="2276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C:\Users\O\Desktop\Letní škola TP\Reichstagsbrand1.jpg"/>
          <p:cNvPicPr/>
          <p:nvPr/>
        </p:nvPicPr>
        <p:blipFill>
          <a:blip r:embed="rId1"/>
          <a:stretch/>
        </p:blipFill>
        <p:spPr>
          <a:xfrm>
            <a:off x="1835280" y="4437000"/>
            <a:ext cx="3190680" cy="227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5" name="Picture 7" descr="C:\Users\O\Desktop\Letní škola TP\flugblatt.jpg"/>
          <p:cNvPicPr/>
          <p:nvPr/>
        </p:nvPicPr>
        <p:blipFill>
          <a:blip r:embed="rId2"/>
          <a:stretch/>
        </p:blipFill>
        <p:spPr>
          <a:xfrm>
            <a:off x="6588000" y="3573360"/>
            <a:ext cx="209412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C67E-6426-4E1A-80EE-53CB2CA360AE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85480" y="1052640"/>
            <a:ext cx="8643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Marinus van der Lubb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před Říšským soude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8" name="Picture 4" descr="C:\Users\O\Desktop\Letní škola TP\van der luube5.jpg"/>
          <p:cNvPicPr/>
          <p:nvPr/>
        </p:nvPicPr>
        <p:blipFill>
          <a:blip r:embed="rId1"/>
          <a:stretch/>
        </p:blipFill>
        <p:spPr>
          <a:xfrm>
            <a:off x="539640" y="1052640"/>
            <a:ext cx="266400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Picture 5" descr="C:\Users\O\Desktop\Letní škola TP\van der lubbe 3.gif"/>
          <p:cNvPicPr/>
          <p:nvPr/>
        </p:nvPicPr>
        <p:blipFill>
          <a:blip r:embed="rId2"/>
          <a:stretch/>
        </p:blipFill>
        <p:spPr>
          <a:xfrm>
            <a:off x="4140360" y="1052640"/>
            <a:ext cx="138564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Picture 6" descr="C:\Users\O\Desktop\Letní škola TP\van der Lubbe2.jpg"/>
          <p:cNvPicPr/>
          <p:nvPr/>
        </p:nvPicPr>
        <p:blipFill>
          <a:blip r:embed="rId3"/>
          <a:stretch/>
        </p:blipFill>
        <p:spPr>
          <a:xfrm>
            <a:off x="539640" y="3500280"/>
            <a:ext cx="3065400" cy="220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1" name="Picture 8" descr="C:\Users\O\Desktop\Letní škola TP\Voelk_Beobachter.jpg"/>
          <p:cNvPicPr/>
          <p:nvPr/>
        </p:nvPicPr>
        <p:blipFill>
          <a:blip r:embed="rId4"/>
          <a:stretch/>
        </p:blipFill>
        <p:spPr>
          <a:xfrm>
            <a:off x="4427640" y="3500280"/>
            <a:ext cx="4106880" cy="289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Picture 9" descr="C:\Users\O\Desktop\Letní škola TP\van der Lubbe.jpg"/>
          <p:cNvPicPr/>
          <p:nvPr/>
        </p:nvPicPr>
        <p:blipFill>
          <a:blip r:embed="rId5"/>
          <a:stretch/>
        </p:blipFill>
        <p:spPr>
          <a:xfrm>
            <a:off x="6443640" y="1052640"/>
            <a:ext cx="203364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9E4-8E8E-4613-AC63-01627B887859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rebuchet MS"/>
              </a:rPr>
              <a:t>3 důležitá nouzová nařízení říšského prezident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ařízení o poskytnutí beztrestnosti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ařízení k obraně proti úkladným útokům proti vládě národního pozdvižení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ařízení o zřízení mimořádných soudů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Sondergericht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5" name="Picture 5" descr="C:\Users\O\Desktop\Letní škola TP\beztrestnost.png"/>
          <p:cNvPicPr/>
          <p:nvPr/>
        </p:nvPicPr>
        <p:blipFill>
          <a:blip r:embed="rId1"/>
          <a:stretch/>
        </p:blipFill>
        <p:spPr>
          <a:xfrm>
            <a:off x="468360" y="2852640"/>
            <a:ext cx="2482920" cy="358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6" name="Picture 6" descr="C:\Users\O\Desktop\Letní škola TP\beztrestnost2.png"/>
          <p:cNvPicPr/>
          <p:nvPr/>
        </p:nvPicPr>
        <p:blipFill>
          <a:blip r:embed="rId2"/>
          <a:stretch/>
        </p:blipFill>
        <p:spPr>
          <a:xfrm>
            <a:off x="3348000" y="2852640"/>
            <a:ext cx="255924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" name="Picture 7" descr="C:\Users\O\Desktop\Letní škola TP\beztrestnost3.png"/>
          <p:cNvPicPr/>
          <p:nvPr/>
        </p:nvPicPr>
        <p:blipFill>
          <a:blip r:embed="rId3"/>
          <a:stretch/>
        </p:blipFill>
        <p:spPr>
          <a:xfrm>
            <a:off x="6227640" y="2852640"/>
            <a:ext cx="246564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D382-A6A7-45F3-BBD0-E97ABAB7BC3F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9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80379b"/>
                </a:solidFill>
                <a:uFillTx/>
                <a:latin typeface="Trebuchet MS"/>
              </a:rPr>
              <a:t>b) Personální změn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43160">
              <a:lnSpc>
                <a:spcPct val="9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židovští zaměstnanci justice a židovští advokáti byli vystaveni nejrůznějším formám útoků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43160">
              <a:lnSpc>
                <a:spcPct val="9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zákon o znovuobnovení úřednictva tvořil právní základ pro realizaci personálních čistek v celém státním aparátu včetně justi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43160">
              <a:lnSpc>
                <a:spcPct val="9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v průběhu roku 1933 byly tedy rozpuštěny všechny právnické profesní organizace – nahrazeny </a:t>
            </a: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Svazem národněsocialistických německých právníků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4" marL="21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Dr. Michael Siegel – mnichovský advokát – si na Gestapu stěžoval proti uvalení ochranné vazby na jeho klienta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Jednotky SA mu ustřihly nohavice u kalhot a vodily po městě s nápisem: </a:t>
            </a:r>
            <a:r>
              <a:rPr b="0" i="1" lang="cs-CZ" sz="1200" spc="-1" strike="noStrike">
                <a:solidFill>
                  <a:srgbClr val="000000"/>
                </a:solidFill>
                <a:latin typeface="Trebuchet MS"/>
              </a:rPr>
              <a:t>„už si nikdy nebudu stěžovat“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0" name="Picture 4" descr="C:\Users\O\Desktop\Letní škola TP\siegel.jpg"/>
          <p:cNvPicPr/>
          <p:nvPr/>
        </p:nvPicPr>
        <p:blipFill>
          <a:blip r:embed="rId1"/>
          <a:stretch/>
        </p:blipFill>
        <p:spPr>
          <a:xfrm>
            <a:off x="395280" y="3429000"/>
            <a:ext cx="401004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Picture 5" descr="C:\Users\O\Desktop\Letní škola TP\siegel2.jpg"/>
          <p:cNvPicPr/>
          <p:nvPr/>
        </p:nvPicPr>
        <p:blipFill>
          <a:blip r:embed="rId2"/>
          <a:stretch/>
        </p:blipFill>
        <p:spPr>
          <a:xfrm>
            <a:off x="4788000" y="3429000"/>
            <a:ext cx="400680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1FC6-E8AA-486E-8B4E-B56E3F88D03B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379b"/>
                </a:solidFill>
                <a:latin typeface="Trebuchet MS"/>
              </a:rPr>
              <a:t>3.1.2 Fáze institucionálního upevnění moci  národních socialistů 1935 – 193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d roku 1935 už k přímým útokům na soudce většinou nedocházel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vlivňování ve svém rozhodování prostřednictvím pokynů nadřízených orgánů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Říšský soud měl od r. 1935 povinnost, aby vzal při svém rozhodování v úvahu nové pojetí práva prosazované po roce 1933         změna dosavadní judikatu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mimořádné soudy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  základní nástroj pronásledování         nárůst kompetencí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d r. 1934 se stává nástrojem teroru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Lidový soudní dvůr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Volksgerichtshof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314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Šipka doprava 3"/>
          <p:cNvSpPr/>
          <p:nvPr/>
        </p:nvSpPr>
        <p:spPr>
          <a:xfrm>
            <a:off x="3635280" y="2924280"/>
            <a:ext cx="360360" cy="14436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Šipka doprava 4"/>
          <p:cNvSpPr/>
          <p:nvPr/>
        </p:nvSpPr>
        <p:spPr>
          <a:xfrm>
            <a:off x="2340000" y="3357720"/>
            <a:ext cx="360360" cy="142560"/>
          </a:xfrm>
          <a:prstGeom prst="rightArrow">
            <a:avLst>
              <a:gd name="adj1" fmla="val 50000"/>
              <a:gd name="adj2" fmla="val 50555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Šipka doprava 5"/>
          <p:cNvSpPr/>
          <p:nvPr/>
        </p:nvSpPr>
        <p:spPr>
          <a:xfrm>
            <a:off x="5796000" y="3357720"/>
            <a:ext cx="360360" cy="142560"/>
          </a:xfrm>
          <a:prstGeom prst="rightArrow">
            <a:avLst>
              <a:gd name="adj1" fmla="val 50000"/>
              <a:gd name="adj2" fmla="val 50555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:\Users\O\Desktop\Letní škola TP\Wereldoorlog 06 Het Volksgerichtshof.jpg"/>
          <p:cNvPicPr/>
          <p:nvPr/>
        </p:nvPicPr>
        <p:blipFill>
          <a:blip r:embed="rId1"/>
          <a:stretch/>
        </p:blipFill>
        <p:spPr>
          <a:xfrm>
            <a:off x="2898720" y="4221000"/>
            <a:ext cx="3416400" cy="24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2D8-4051-4FFA-B97E-A3E5E015E2B2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80379b"/>
                </a:solidFill>
                <a:uFillTx/>
                <a:latin typeface="Trebuchet MS"/>
              </a:rPr>
              <a:t>Lidový soudní dvůr –</a:t>
            </a:r>
            <a:r>
              <a:rPr b="0" i="1" lang="cs-CZ" sz="1800" spc="-1" strike="noStrike" u="sng">
                <a:solidFill>
                  <a:srgbClr val="80379b"/>
                </a:solidFill>
                <a:uFillTx/>
                <a:latin typeface="Trebuchet MS"/>
              </a:rPr>
              <a:t> Volksgerichtsho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byl zřízen v roce 1934 jako reakce na neúspěšný proces s pachateli požáru říšského sněm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Lidový soudní dvůr byl příslušný pro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a) velezradu (§§ 80 – 84 t.z.)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b) zemězradu (§§ 89 – 92 t.z.)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c) útoky na Vůdce a říšského kancléře (§ 94 odst. 1 t.z.)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d) těžké případy poškození branných prostředků a ohrožení branné moci spřátelených států (§§ 1, 5 nařízení k doplnění trestních předpisů na ochranu branné síly německého národa z 25. listopadu 1939 (RGBl. I., S. 2319)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) neoznámení osnovaného zločinu, pokud se jedná a velezradu (§ 139 odst. 2 t.z.)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f) zločin dle § 5 č. 1 nařízení na ochranu národa a státu z 28. února 1933 (RGBl. I., S. 83)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g) zločin dle § 1 odst. 1 zákona proti hospodářské sabotáži z 1. prosince 1936 (RGBl. I., S. 999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C33-B670-4A4E-9477-794DF2BB37F8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Roland Freisle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předseda Lidového soudního dvor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Picture 2" descr="C:\Users\O\Desktop\protektorát\volksgerichtshof_0.jpg"/>
          <p:cNvPicPr/>
          <p:nvPr/>
        </p:nvPicPr>
        <p:blipFill>
          <a:blip r:embed="rId1"/>
          <a:stretch/>
        </p:blipFill>
        <p:spPr>
          <a:xfrm>
            <a:off x="500040" y="1071720"/>
            <a:ext cx="3879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Picture 3" descr="C:\Users\O\Desktop\protektorát\Plotzensee_nooses.jpg"/>
          <p:cNvPicPr/>
          <p:nvPr/>
        </p:nvPicPr>
        <p:blipFill>
          <a:blip r:embed="rId2"/>
          <a:stretch/>
        </p:blipFill>
        <p:spPr>
          <a:xfrm>
            <a:off x="6072120" y="1143000"/>
            <a:ext cx="2635200" cy="197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CF5F-815F-48E4-B51E-7CD0FD3BD10C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6760" y="1000080"/>
            <a:ext cx="857268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Řízení před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Lidovým soudním dvor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rebuchet MS"/>
              </a:rPr>
              <a:t>Filmové záběry řízení před Lidovým soudním dvore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rebuchet MS"/>
              </a:rPr>
              <a:t>(proces s atentátníky na Hitlera 1944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379b"/>
                </a:solidFill>
                <a:latin typeface="Trebuchet MS"/>
              </a:rPr>
              <a:t>http://www.youtube.com/watch?v=pXwiZM74n_Q&amp;feature=relate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6" name="Picture 2" descr="C:\Users\O\Desktop\protektorát-skola\Bundesarchiv_Bild_151-39-21,_Volksgerichtshof,_Reinecke,_Freisler,_Lautz.jpg"/>
          <p:cNvPicPr/>
          <p:nvPr/>
        </p:nvPicPr>
        <p:blipFill>
          <a:blip r:embed="rId1"/>
          <a:srcRect l="0" t="0" r="0" b="4410"/>
          <a:stretch/>
        </p:blipFill>
        <p:spPr>
          <a:xfrm>
            <a:off x="395280" y="1197000"/>
            <a:ext cx="5040360" cy="337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7F97-0602-4E53-B8D2-49B03B10ED2A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379b"/>
                </a:solidFill>
                <a:latin typeface="Trebuchet MS"/>
              </a:rPr>
              <a:t>3.2 Období druhé světové válk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-2455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bdobí ministra Gürtnera (do ledna 1941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-2455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bdobí ministra Schlegelbergera (leden 1941 – srpen 1942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-2455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bdobí ministra Thieracka (srpen 1942 – květen 1945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-2455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Trestní právo hmotné nebylo upraveno pouze v 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restním zákoně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, nýbrž charakteristické pro toto válečné období bylo vydávání tzv.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dlejších trestních zákonů,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apř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82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375920" indent="-19656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nařízení o mimořádných opatřeních v souvislosti s poslechem rozhlasu z 1. září 1939  nařízení o válečném hospodářství ze 4. září 1939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375920" indent="-19656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nařízení proti škůdcům národa </a:t>
            </a:r>
            <a:r>
              <a:rPr b="0" i="1" lang="cs-CZ" sz="1400" spc="-1" strike="noStrike">
                <a:solidFill>
                  <a:srgbClr val="000000"/>
                </a:solidFill>
                <a:latin typeface="Trebuchet MS"/>
              </a:rPr>
              <a:t>(tzv. Volksschädlingsverordnung)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 z 5. září 1939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375920" indent="-19656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nařízení k doplnění trestních předpisů k ochraně branné síly německého národa z 25. listopadu 1939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375920" indent="-19656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nařízení proti pachatelům násilných trestných činů z 5. prosince 1939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82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DA56-E685-40A4-8EC6-7BEC74C3817C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zavedení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mimořádných opravných prostředků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do trestního procesu: mimořádný odpor a zmateční stížnost (mohl podat pouze státní zástupc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ařízení o trestním soudnictví vykonávané vůči Polákům a Židům v přičleněných východních územích ze 4. prosince 194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Hitlerův výnos ze 7. prosince 1941 č.165/1941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tzv. Nacht und Nebel Erlas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zavedení systému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ředběžných a následných náhledů rozsudků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zavedení tzv.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soudcovských dopisů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314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1" name="Picture 2" descr="C:\Users\O\Desktop\Letní škola TP\wehmachtgerichte.jpg"/>
          <p:cNvPicPr/>
          <p:nvPr/>
        </p:nvPicPr>
        <p:blipFill>
          <a:blip r:embed="rId1"/>
          <a:stretch/>
        </p:blipFill>
        <p:spPr>
          <a:xfrm>
            <a:off x="2268360" y="4005360"/>
            <a:ext cx="4391280" cy="22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6D21-DFDE-4A36-A7CF-863A81B38D5D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379b"/>
                </a:solidFill>
                <a:latin typeface="Trebuchet MS"/>
              </a:rPr>
              <a:t>OBSAH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379b"/>
                </a:solidFill>
                <a:latin typeface="Trebuchet MS"/>
              </a:rPr>
              <a:t>1. ÚVO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379b"/>
                </a:solidFill>
                <a:latin typeface="Trebuchet MS"/>
              </a:rPr>
              <a:t>2. CHARAKTER NACISTICKÉHO PRÁV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2.1 Ideové základy nacistického práv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2.2 Charakter nacistického trestního práv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379b"/>
                </a:solidFill>
                <a:latin typeface="Trebuchet MS"/>
              </a:rPr>
              <a:t>3. HISTORICKÝ PŘEHLED VÝVOJE TRESTNÍHO SOUDNICTVÍ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3.1 Období míru (1933 – 1939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3.2 Období války (1939 – 1945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379b"/>
                </a:solidFill>
                <a:latin typeface="Trebuchet MS"/>
              </a:rPr>
              <a:t>4. ODSTRANĚNÍ NEZÁVISLOSTI JUST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379b"/>
                </a:solidFill>
                <a:latin typeface="Trebuchet MS"/>
              </a:rPr>
              <a:t>5. PŘEHLED A ZMĚNY V ORGANIZACI TRESTNÍCH SOUD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379b"/>
                </a:solidFill>
                <a:latin typeface="Trebuchet MS"/>
              </a:rPr>
              <a:t>6. ZÁVĚ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Picture 5" descr="C:\Users\O\Desktop\Letní škola TP\roland_freisler.jpg"/>
          <p:cNvPicPr/>
          <p:nvPr/>
        </p:nvPicPr>
        <p:blipFill>
          <a:blip r:embed="rId1"/>
          <a:stretch/>
        </p:blipFill>
        <p:spPr>
          <a:xfrm>
            <a:off x="6156360" y="1197000"/>
            <a:ext cx="278604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14C4-85DF-451D-B465-026BC4885866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4. ODSTRANĚNÍ NEZÁVISLOSTI JUSTI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eexistence dělby moci -  Zavedení vůdcovského principu do soudnictví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dstranění některých základních zásad právního stát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dstranění soudní samosprávy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dstranění věcné nezávislosti soudnictví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dstranění osobní nezávislosti soudnictví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Vzdělávání a školení soudců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314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4" name="Picture 2" descr="C:\Users\O\Desktop\Letní škola TP\richter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716360" y="4508640"/>
            <a:ext cx="3506760" cy="20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AA4C-0376-466D-B0EA-30E850292CCA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5. ORGANIZACE TRESTNÍCH SOUDŮ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K řádným soudům se řadily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úřední soudy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Amtsgericht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zemské soudy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Landgericht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vrchní zemské soudy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Oberlandesgerichte)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říšský soud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(Reichsgericht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K mimořádným soudům se řadily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mimořádné soud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Lidový soudní dvůr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Graf přehledu uložených trestů smrti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rebuchet MS"/>
              </a:rPr>
              <a:t>Lidovým soudním dvore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72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7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Picture 3" descr="C:\Users\O\Desktop\Letní škola TP\Obrázek1.png"/>
          <p:cNvPicPr/>
          <p:nvPr/>
        </p:nvPicPr>
        <p:blipFill>
          <a:blip r:embed="rId1"/>
          <a:srcRect l="1826" t="2754" r="1397" b="9115"/>
          <a:stretch/>
        </p:blipFill>
        <p:spPr>
          <a:xfrm>
            <a:off x="5076720" y="3645000"/>
            <a:ext cx="38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399-F2CA-4444-A112-90FB378C079B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6. ZÁVĚ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základním postulátem TP v tomto období byla ochrana národního společenství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eexistence jednotné kodifikac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v hospodářské oblasti se vycházelo z přednosti společného užitku před vlastní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degradaci práva vůbec představovalo používání analogie leg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95E-AE55-4D6A-81E2-F651A8A18F07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Trebuchet MS"/>
              </a:rPr>
              <a:t>Děkuji Vám za pozornost 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379b"/>
                </a:solidFill>
                <a:latin typeface="Trebuchet MS"/>
              </a:rPr>
              <a:t>Případné dotazy směřujte n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80379b"/>
                </a:solidFill>
                <a:uFillTx/>
                <a:latin typeface="Trebuchet MS"/>
              </a:rPr>
              <a:t>tauchen@mail.muni.cz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184-A779-4110-90E6-E699C49F0911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42960" y="1052280"/>
            <a:ext cx="52243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1.ÚVOD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379b"/>
                </a:solidFill>
                <a:latin typeface="Trebuchet MS"/>
              </a:rPr>
              <a:t>Otázky pro zamyšlení, popř. další studiu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just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xistovalo specifické nacistické trestní právo? Jak toto právo vypadalo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just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Jak bylo možné, že se německá justice a němečtí právníci dali do služeb nacistickému zločinnému režimu a pomohli mu prosazovat jeho zločinnou politiku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just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Jakou roli přitom hrál zákonodárce, právní věda, nacistická ideologie, stav justice ve Výmarské republice a další faktory, jako byla válka, řízení justice a osobnost soudce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just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Jak se němečtí soudci sami podíleli na spáchaných zločinech a nakolik sami svou činností přispěli k likvidaci odpůrců nacistického režimu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just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Jaký byl obraz soudce ve Třetí říši? Jakým způsobem byl soudce při své rozhodovací činnosti ze strany nacistického režimu ovlivňován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just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Jak efektivní byla organizace německého trestního soudnictví mezi léty 1933 – 1945 především při stíhání odpůrců národně socialistického režimu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4" name="Picture 4" descr="C:\Users\O\Desktop\Letní škola TP\Im Namen des Deutschen VOlkes.gif"/>
          <p:cNvPicPr/>
          <p:nvPr/>
        </p:nvPicPr>
        <p:blipFill>
          <a:blip r:embed="rId1"/>
          <a:stretch/>
        </p:blipFill>
        <p:spPr>
          <a:xfrm>
            <a:off x="6084720" y="1125360"/>
            <a:ext cx="288792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5CB-2409-4AA5-9C5D-289D1BE062FD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642960" y="1052640"/>
            <a:ext cx="83217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2.CHARAKTER NACISTICKÉHO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379b"/>
                </a:solidFill>
                <a:latin typeface="Arial"/>
              </a:rPr>
              <a:t>2.1 Ideové základy nacistického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ojetí práva ovlivňovali a spoluvytváře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ůdce a říšský kancléř Adolf Hitler a další vrcholní straničtí představitel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stři spravedlnosti a čelní právníci, např. říšský vůdce práva Hans Fran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pina právních teoretiků – např. Carl Schmitt či tzv. Kielská šk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:\Users\O\Desktop\Letní škola TP\ns_justiz.jpg"/>
          <p:cNvPicPr/>
          <p:nvPr/>
        </p:nvPicPr>
        <p:blipFill>
          <a:blip r:embed="rId1"/>
          <a:srcRect l="0" t="0" r="0" b="11721"/>
          <a:stretch/>
        </p:blipFill>
        <p:spPr>
          <a:xfrm>
            <a:off x="6875640" y="4149720"/>
            <a:ext cx="2017440" cy="25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B3E-4484-4890-A804-63EF714DA26B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85480" y="1052640"/>
            <a:ext cx="8643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Hans Frank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    Roland Freisler 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           Wilhelm Stuckar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tto Thierack                      Kurt Rothenberger                         Carl Schmit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0" name="Picture 4" descr="C:\Users\O\Desktop\Letní škola TP\hans frank.jpg"/>
          <p:cNvPicPr/>
          <p:nvPr/>
        </p:nvPicPr>
        <p:blipFill>
          <a:blip r:embed="rId1"/>
          <a:stretch/>
        </p:blipFill>
        <p:spPr>
          <a:xfrm>
            <a:off x="900000" y="981000"/>
            <a:ext cx="1440000" cy="198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1" name="Picture 5" descr="C:\Users\O\Desktop\Letní škola TP\freisler.jpg"/>
          <p:cNvPicPr/>
          <p:nvPr/>
        </p:nvPicPr>
        <p:blipFill>
          <a:blip r:embed="rId2"/>
          <a:stretch/>
        </p:blipFill>
        <p:spPr>
          <a:xfrm>
            <a:off x="3492360" y="981000"/>
            <a:ext cx="1584360" cy="196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Picture 6" descr="C:\Users\O\Desktop\Letní škola TP\stuckart.jpg"/>
          <p:cNvPicPr/>
          <p:nvPr/>
        </p:nvPicPr>
        <p:blipFill>
          <a:blip r:embed="rId3"/>
          <a:stretch/>
        </p:blipFill>
        <p:spPr>
          <a:xfrm>
            <a:off x="6012000" y="981000"/>
            <a:ext cx="2474640" cy="19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7" descr="C:\Users\O\Desktop\Letní škola TP\thierack.jpg"/>
          <p:cNvPicPr/>
          <p:nvPr/>
        </p:nvPicPr>
        <p:blipFill>
          <a:blip r:embed="rId4"/>
          <a:stretch/>
        </p:blipFill>
        <p:spPr>
          <a:xfrm>
            <a:off x="826920" y="3716280"/>
            <a:ext cx="1521000" cy="220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8" descr="C:\Users\O\Desktop\Letní škola TP\rothenberger.jpg"/>
          <p:cNvPicPr/>
          <p:nvPr/>
        </p:nvPicPr>
        <p:blipFill>
          <a:blip r:embed="rId5"/>
          <a:srcRect l="67340" t="0" r="0" b="6260"/>
          <a:stretch/>
        </p:blipFill>
        <p:spPr>
          <a:xfrm>
            <a:off x="3635280" y="3716280"/>
            <a:ext cx="141444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Picture 9" descr="C:\Users\O\Desktop\Letní škola TP\carl schmitt.jpg"/>
          <p:cNvPicPr/>
          <p:nvPr/>
        </p:nvPicPr>
        <p:blipFill>
          <a:blip r:embed="rId6"/>
          <a:stretch/>
        </p:blipFill>
        <p:spPr>
          <a:xfrm>
            <a:off x="6443640" y="3716280"/>
            <a:ext cx="1548000" cy="22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3611-E237-4DB1-9193-1AD686989479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85480" y="1052280"/>
            <a:ext cx="864396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rebuchet MS"/>
              </a:rPr>
              <a:t>Hitler a práv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účel práva spočívá v ochraně národního společenství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prohlásil se za nevyššího soudce německého náro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sám korigoval příliš mírné soudní rozsudky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rebuchet MS"/>
              </a:rPr>
              <a:t>Prominentní právníci Třetí říše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ans Frank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Roland Freisl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Otto Thierack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elmut Nicola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ilhelm Stuckart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Kurt Rothenberg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rebuchet MS"/>
              </a:rPr>
              <a:t>Proklamované fráze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i="1" lang="cs-CZ" sz="1400" spc="-1" strike="noStrike">
                <a:solidFill>
                  <a:srgbClr val="000000"/>
                </a:solidFill>
                <a:latin typeface="Trebuchet MS"/>
              </a:rPr>
              <a:t>Právo je to, co slouží německému národu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i="1" lang="cs-CZ" sz="1400" spc="-1" strike="noStrike">
                <a:solidFill>
                  <a:srgbClr val="000000"/>
                </a:solidFill>
                <a:latin typeface="Trebuchet MS"/>
              </a:rPr>
              <a:t>Ty neznamenáš nic, tvůj národ znamená všechno“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7E0-7E93-40F7-9545-4F6727CC96A5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85480" y="1052640"/>
            <a:ext cx="49338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379b"/>
                </a:solidFill>
                <a:latin typeface="Trebuchet MS"/>
              </a:rPr>
              <a:t>2.1 Charakter nacistického práv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zcela otevřeně popíralo zásadu rovnosti a další základní právní zásad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úkolem soudů nebylo hájit zájmy jednotlivce, nýbrž zájmy celku          německého národ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nové prameny práva: Vůdcova vůle či národně socialistická ideologi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porušeny zásady 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„nullum crimen  sine lege“ 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„nulla poena sine lege“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a obecné zásady o zákazu zpětné účinnosti zákon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Šipka doprava 3"/>
          <p:cNvSpPr/>
          <p:nvPr/>
        </p:nvSpPr>
        <p:spPr>
          <a:xfrm>
            <a:off x="7020000" y="2205000"/>
            <a:ext cx="288720" cy="21600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C:\Users\O\Desktop\Letní škola TP\volksverräter.jpg"/>
          <p:cNvPicPr/>
          <p:nvPr/>
        </p:nvPicPr>
        <p:blipFill>
          <a:blip r:embed="rId1"/>
          <a:stretch/>
        </p:blipFill>
        <p:spPr>
          <a:xfrm>
            <a:off x="5580000" y="1125360"/>
            <a:ext cx="3403800" cy="323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Šipka doprava 5"/>
          <p:cNvSpPr/>
          <p:nvPr/>
        </p:nvSpPr>
        <p:spPr>
          <a:xfrm>
            <a:off x="2771640" y="335772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8037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881-B40F-43CD-9EB1-023F68F414DE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5480" y="1052280"/>
            <a:ext cx="810252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379b"/>
                </a:solidFill>
                <a:latin typeface="Trebuchet MS"/>
              </a:rPr>
              <a:t>2.1 Charakter nacistického práv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v trestním právu připuštěna analogie: „</a:t>
            </a: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nebyl trestný jen čin, který zákon za trestný výslovně prohlásil, nýbrž i čin, který si podle základní myšlenky trestního zákona a </a:t>
            </a:r>
            <a:r>
              <a:rPr b="1" i="1" lang="cs-CZ" sz="1800" spc="-1" strike="noStrike" u="sng">
                <a:solidFill>
                  <a:srgbClr val="ff0000"/>
                </a:solidFill>
                <a:uFillTx/>
                <a:latin typeface="Trebuchet MS"/>
              </a:rPr>
              <a:t>podle zdravého národního cítění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rebuchet MS"/>
              </a:rPr>
              <a:t>vyžaduje potrestání“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uložený trest byl v absolutním nepoměru k vině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byly zneužity tzv. </a:t>
            </a: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eurčité pojmy,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které umožňovaly výklad práva podle národně socialistických představ – př. zdravé národní cítění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Picture 2" descr="C:\Users\O\Desktop\Letní škola TP\ns justiz.jpg"/>
          <p:cNvPicPr/>
          <p:nvPr/>
        </p:nvPicPr>
        <p:blipFill>
          <a:blip r:embed="rId1"/>
          <a:stretch/>
        </p:blipFill>
        <p:spPr>
          <a:xfrm>
            <a:off x="3203640" y="4437000"/>
            <a:ext cx="2952720" cy="225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číslo snímku 4"/>
          <p:cNvSpPr/>
          <p:nvPr/>
        </p:nvSpPr>
        <p:spPr>
          <a:xfrm>
            <a:off x="802332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B0C-843A-41F9-8FCA-2CC000420CA0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643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379b"/>
                </a:solidFill>
                <a:latin typeface="Trebuchet MS"/>
              </a:rPr>
              <a:t>3. HISTORICKÝ PŘEHLED VÝVOJE TRESTNÍHO SOUDNICTVÍ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379b"/>
                </a:solidFill>
                <a:latin typeface="Trebuchet MS"/>
              </a:rPr>
              <a:t>3.1 Období mír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Fáze revolučního převratu 1933 – 193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Fáze institucionálního upevnění moci národních socialistů 1935 – 193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80379b"/>
                </a:solidFill>
                <a:latin typeface="Trebuchet MS"/>
              </a:rPr>
              <a:t>3.1.1 Fáze revolučního převratu 1933 – 193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a9aa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Celá třicátá léta jsou úzce spjaty s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osobou říšského ministra spravedlnosti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Franze Gürtner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8" name="Picture 4" descr="C:\Users\O\Desktop\Letní škola TP\gürtner"/>
          <p:cNvPicPr/>
          <p:nvPr/>
        </p:nvPicPr>
        <p:blipFill>
          <a:blip r:embed="rId1"/>
          <a:stretch/>
        </p:blipFill>
        <p:spPr>
          <a:xfrm>
            <a:off x="2700360" y="4581360"/>
            <a:ext cx="1519200" cy="20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9" name="Picture 5" descr="C:\Users\O\Desktop\Letní škola TP\gürtner2.jpg"/>
          <p:cNvPicPr/>
          <p:nvPr/>
        </p:nvPicPr>
        <p:blipFill>
          <a:blip r:embed="rId2"/>
          <a:stretch/>
        </p:blipFill>
        <p:spPr>
          <a:xfrm>
            <a:off x="4788000" y="4581360"/>
            <a:ext cx="1430280" cy="20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41:01Z</dcterms:created>
  <dc:creator>Eva Žatecká</dc:creator>
  <dc:description/>
  <dc:language>en-US</dc:language>
  <cp:lastModifiedBy>O</cp:lastModifiedBy>
  <dcterms:modified xsi:type="dcterms:W3CDTF">2010-08-30T21:12:29Z</dcterms:modified>
  <cp:revision>108</cp:revision>
  <dc:subject/>
  <dc:title>Nadpis prezentace</dc:title>
</cp:coreProperties>
</file>