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3FD-7489-499D-8CDE-7EB18F3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11D-D2AC-4F2F-B95F-1717DEC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B7C-9A3B-487A-AB98-5D687557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714-7C24-4A00-B58D-7A805F10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24A6-691B-41F9-916A-125B4CFD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579B-BD2F-4D24-9607-72FCD5B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331-9BED-4DDA-B7C7-0A535A3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8FA4-1EE3-499C-B5C1-B561445E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3DA-A62B-49FE-9BB1-37C75EC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8290-8E79-49D6-A64C-F8C2F8D2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12C-7EA2-43AF-A2CE-FBFCD02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D5A-BB10-47AD-84F1-B106A98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BAD5-5768-41E4-B518-649F14D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B26B-876A-4E6C-AF4F-843574E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537-AC48-4550-BEBD-EB53DB1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52F-A365-47F8-B9F0-7D677611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16F-66A9-4F6B-8ECB-51E96985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1CB-39C0-47F5-B648-9BC1E463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D0-E6BE-4474-86CC-BE6515A5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BEB-49D2-4429-BAF9-CAEBF1C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61D-28E8-48F9-B04B-F865B5CA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C29-3AE4-4B78-B430-550EF31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690-F219-4DFC-8312-67C23CF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13D-D8AB-4DA8-B624-4950822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4AB2-64EB-4089-8EF2-0BF5E23725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B0D7-995D-4786-83F1-1A62E630F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Garamond"/>
              </a:rPr>
              <a:t>§§§ </a:t>
            </a:r>
            <a:r>
              <a:rPr b="1" lang="sk-SK" sz="3600" spc="-1" strike="noStrike">
                <a:solidFill>
                  <a:srgbClr val="ff0000"/>
                </a:solidFill>
                <a:latin typeface="Garamond"/>
              </a:rPr>
              <a:t>Adriana Švecová</a:t>
            </a:r>
            <a:r>
              <a:rPr b="0" lang="sk-SK" sz="3600" spc="-1" strike="noStrike">
                <a:solidFill>
                  <a:srgbClr val="ffffff"/>
                </a:solidFill>
                <a:latin typeface="Garamond"/>
              </a:rPr>
              <a:t> §§§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Garamond"/>
              </a:rPr>
              <a:t>Trestné právo na Slovensku  z niektorých aspektov stredovekého  šľachtického práv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ná škola MU Brno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312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Hlavné znaky udeľovania peňažných trestov II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Aké boli právne možnosti a zákonný rámec právneho inštitútu, ktoré umožnili transformovať a nahradiť krvnú pomstu v neskorších obdobiach stredoveku na zaplatenia tzv. </a:t>
            </a:r>
            <a:r>
              <a:rPr b="0" i="1" lang="sk-SK" sz="3200" spc="-1" strike="noStrike">
                <a:solidFill>
                  <a:srgbClr val="ffffff"/>
                </a:solidFill>
                <a:latin typeface="Garamond"/>
              </a:rPr>
              <a:t>compositi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alebo </a:t>
            </a:r>
            <a:r>
              <a:rPr b="0" i="1" lang="sk-SK" sz="3200" spc="-1" strike="noStrike">
                <a:solidFill>
                  <a:srgbClr val="ffffff"/>
                </a:solidFill>
                <a:latin typeface="Garamond"/>
              </a:rPr>
              <a:t>homagi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legislatívne opatrenia sv. Štefana odmietli a zakázali kmeňovú krvnú pomstu, ako i nápravu spôsobenej ujmy (krivdy) vyjednávaní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Hlavné znaky udeľovania peňažných trestov III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oškodenému </a:t>
            </a:r>
            <a:r>
              <a:rPr b="0" i="1" lang="sk-SK" sz="2400" spc="-1" strike="noStrike">
                <a:solidFill>
                  <a:srgbClr val="ffffff"/>
                </a:solidFill>
                <a:latin typeface="Garamond"/>
              </a:rPr>
              <a:t>ergo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 prináležalo 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rozhodnúť pre staršiu, ale už prekonan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rvnú odvetu, alebo pre výkon homagia ak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náhrady, zadosťučinenia a trestu zároveň 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veciach najťažších zločino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v čase Štefana I. začínal uplatňovať v je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zákonoch ako ďalšia forma trestu za vražd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nazvaného aj podľa viacvýznamového termí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Garamond"/>
              </a:rPr>
              <a:t>compositio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 – dohoda, pykanie, pokánie, náhrada škod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reto sa v historiografii používa pojem tzv. kompozičn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rincí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Hlavné znaky udeľovania peňažných trestov IV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vojovo mladší termín </a:t>
            </a:r>
            <a:r>
              <a:rPr b="0" i="1" lang="sk-SK" sz="3200" spc="-1" strike="noStrike">
                <a:solidFill>
                  <a:srgbClr val="ffffff"/>
                </a:solidFill>
                <a:latin typeface="Garamond"/>
              </a:rPr>
              <a:t>homagium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o svojej podstate predstavovalo vlastne výkupné a náhradu z pomsty a odvety, z exekúcie trestu smrti, a prirodzene bolo i majetkovým trestom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0000"/>
                </a:solidFill>
                <a:latin typeface="Garamond"/>
              </a:rPr>
              <a:t>Charakteristika homagia v systéme stredovekého trestani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ripartitum (III. časť, čl.5, § 2) charakterizovalo homagium ako ohodnotenie (</a:t>
            </a:r>
            <a:r>
              <a:rPr b="0" i="1" lang="sk-SK" sz="3200" spc="-1" strike="noStrike">
                <a:solidFill>
                  <a:srgbClr val="ffffff"/>
                </a:solidFill>
                <a:latin typeface="Garamond"/>
              </a:rPr>
              <a:t>aestimatio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) za usmrtenie jednotliv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áchateľ (vrah – </a:t>
            </a:r>
            <a:r>
              <a:rPr b="0" i="1" lang="sk-SK" sz="3200" spc="-1" strike="noStrike">
                <a:solidFill>
                  <a:srgbClr val="ffffff"/>
                </a:solidFill>
                <a:latin typeface="Garamond"/>
              </a:rPr>
              <a:t>homicid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) vydával obeti, alebo najčastejšie rodine, príbuzným ob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áchateľ sa trestom vykupoval spod trestu smrti – vykupoval svoju hla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ôvodne sa homagium</a:t>
            </a: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latilo len za hrdelné trestné činy vraždy a zabitia bez určenia objektívnej stránky trestného čin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určenie homagia podľa Tripartita: rozlišovalo medzi </a:t>
            </a: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homagium mortuum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– peňažný trest za činy väčšieho násilia (nielen vraždy) a </a:t>
            </a: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homagium vivum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vyplácané v polovičnej sume zákonom určeného homag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homagium  za preláta, baróna sa stanovilo vo výške štyristo zlatých, za šľachtica na úrovni zemana dvesto zlatých a život ostaných slobodných i poddaných sa cenil na štyridsať zlatý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0000"/>
                </a:solidFill>
                <a:latin typeface="Garamond"/>
              </a:rPr>
              <a:t>Vyjadrenie solúcie homagia v stredovekých listinác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Listinný formulár v dispozícii uvádzal, ž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vinné subjekty dosvedčili vyplaten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homagia,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napríklad v často užívan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slovnom spojení: </a:t>
            </a: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i="1" lang="sk-SK" sz="2800" spc="-1" strike="noStrike">
                <a:solidFill>
                  <a:srgbClr val="ff0000"/>
                </a:solidFill>
                <a:latin typeface="Garamond"/>
              </a:rPr>
              <a:t>za smrť a zabitie 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ff0000"/>
                </a:solidFill>
                <a:latin typeface="Garamond"/>
              </a:rPr>
              <a:t>zaplatili pred nami NN</a:t>
            </a:r>
            <a:r>
              <a:rPr b="0" lang="sk-SK" sz="2800" spc="-1" strike="noStrike">
                <a:solidFill>
                  <a:srgbClr val="ff0000"/>
                </a:solidFill>
                <a:latin typeface="Garamond"/>
              </a:rPr>
              <a:t> (povinný subje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Garamond"/>
              </a:rPr>
              <a:t>z titulu vyplatenia homagia) ... (výš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Garamond"/>
              </a:rPr>
              <a:t>homagia vyplácaná najčastejšie v hrivná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Garamond"/>
              </a:rPr>
              <a:t>striebra)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 – „</a:t>
            </a: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pro morte et occasione NN solver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ffffff"/>
                </a:solidFill>
                <a:latin typeface="Garamond"/>
              </a:rPr>
              <a:t>coram nobis NN“.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0000"/>
                </a:solidFill>
                <a:latin typeface="Garamond"/>
              </a:rPr>
              <a:t>Vyjadrenie solúcie homagia v stredovekých listinác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aždá splátka sa zvyčajne vyplat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a potvrdila pred hodnoverným miest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ydaním kvitančnej listiny s klauzulou „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vráti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v plnosti vydajúc všetko“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 – „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redider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penitus et omnino expeditum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Materiálne východiská poznania uhorského trestného práva: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1. právny partikularizmus (platný pre celý právny poriadok) – rozdielna úprava pre jednotlivé stavy aj lokal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2. trestné činy sa riešili zásadne súkromnožalobne, kráľovskí sudcovia spolupôsobili buď ako požiadaní sudcovia alebo arbitr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3. písaný systém trestného práva sa tvorí ako precedentný (podľa ad hoc konkrétneho prípadu) subsystém obyčajového a zákonné práva a ďalších prameňo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4. delenie trestných činov nastáva až po zadefinovaní tzv. verejných trest. čino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038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Zásady trestani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Ideologické východisko kresťanského chápania zločinu ako spáchania hriec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Subjektivita v posudzovaní trestnosti a právnej kvalifikác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ásady individuality versus nox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rejné exekúcie trestov (osobitne hrdelných, zneucťujúci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lasifikácia: verejné a súkromné trestné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Hlavné obsahové znaky trestnoprávnych noriem sv. Štefan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Všímali si mieru zavinenia: rozlišovali nedbanlivostné a úmyselné zavenenie, okolnosti vylučujúce protiprávnosť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okus bol pôvodne bez trestu, účastníctvo a spolupáchateľstvo trestané až za Ladislava I. (druhá polovica 11. storoč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rávo azylu, upravené vo viacerých článkoch, neznamenalo beztrestnosť, ale podriadenie sa ochrane cirkvi a prípadne aj jej trestom, vylúčené pri velezr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Úprava najmä násilných trestných činov ako vraždy, zabitie, znásilnenie, krádež, lúpež, násilnosti najrôznejšieho druhu, poranenie, útok na štátnych úradníkov a osobitne vlastizradné konanie voči panovníkovi (sem patrí aj priame f. napadnut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ruhy trestných čino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Verejné trestné činy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otýkali sa ohrozenia verejného poriadku alebo závažného mravného pochybenia, a nepripúšťala sa kompozícia v podobe peňažnej poku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Súkromné trestné činy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hápali sa ako ujmy na súkromí, pričom o satisfakciu a trest musel požiadať poškodený, resp. jeho príbuzní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Verejné trestné čin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vlastizrada (nota infidelitat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vojenská z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porušenie snemového alebo súdneho poriad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4. násilie na úradných osob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5. zneužitie zemepanskej iurisdik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6. nesplnenie sľubu a falošná prísa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Verejné trestné čin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. delikty v obchodnom sty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 delikty proti náboženst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 delikty proti zdrav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 delikty proti mra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. delikty proti majet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úkromné trestné čin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Nási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Strata c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Poškodenie majet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Iné delik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Hlavné znaky udeľovania peňažných trestov I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 stredoveku sa trestali omnoho prísnejš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restné činy vraždy, zabitia, označova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 dobových prameňoch (zákony, list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hodnoverných miest, právne pramene 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apríklad Regestum Varadiense) 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homicidium, occissi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3:40:35Z</dcterms:created>
  <dc:creator>pc</dc:creator>
  <dc:description/>
  <dc:language>en-US</dc:language>
  <cp:lastModifiedBy>10908</cp:lastModifiedBy>
  <dcterms:modified xsi:type="dcterms:W3CDTF">2010-08-31T15:56:15Z</dcterms:modified>
  <cp:revision>11</cp:revision>
  <dc:subject/>
  <dc:title>Trestné právo na Slovensku  z niektorých aspektov stredovekého práva</dc:title>
</cp:coreProperties>
</file>