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5AF46-6165-475C-868E-1389991D4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509C-E5F6-40B4-966C-7AC47F9FC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62A14-7919-4BD0-B9A7-4ECCD0453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CB9FC-5191-48AC-BAAC-DDFB50FE9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44B6-CBCB-4C59-9915-C8897B8F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7E93F-56FD-4D08-A95E-806DC23B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99128-5127-4DAA-9BE6-5EEF309C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F1965-8371-4536-9328-FD337355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F2F8-BA01-42D2-9B75-A11D2834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F77F3-FF11-4310-A308-B7517315E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1411-F44D-46BF-ABD6-DB36D191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541A9-0116-4953-BC19-5F4036C05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8c6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8752-2B9D-4D76-9F6D-E37240F962B9}"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estujme.cz/sibenice/sibenice.php?jaz=0" TargetMode="External"/><Relationship Id="rId2" Type="http://schemas.openxmlformats.org/officeDocument/2006/relationships/hyperlink" Target="http://www.moskyt.net/view.php?cisloclanku=2008050004" TargetMode="External"/><Relationship Id="rId3" Type="http://schemas.openxmlformats.org/officeDocument/2006/relationships/hyperlink" Target="http://www.novinky.cz/"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novinky.cz/"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Calibri"/>
              </a:rPr>
              <a:t>Trvání trestu po smrti pachate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11280" y="2349000"/>
            <a:ext cx="468144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alibri"/>
              </a:rPr>
              <a:t>JUDr. Pavel Salák jr., Ph.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alibri"/>
              </a:rPr>
              <a:t>KDSP MU</a:t>
            </a:r>
            <a:endParaRPr b="0" lang="en-US" sz="3200" spc="-1" strike="noStrike">
              <a:solidFill>
                <a:srgbClr val="000000"/>
              </a:solidFill>
              <a:latin typeface="Calibri"/>
            </a:endParaRPr>
          </a:p>
        </p:txBody>
      </p:sp>
      <p:pic>
        <p:nvPicPr>
          <p:cNvPr id="43" name="Obrázek 4" descr="staromak_poprava1x.jpg"/>
          <p:cNvPicPr/>
          <p:nvPr/>
        </p:nvPicPr>
        <p:blipFill>
          <a:blip r:embed="rId1"/>
          <a:stretch/>
        </p:blipFill>
        <p:spPr>
          <a:xfrm>
            <a:off x="4643280" y="3413160"/>
            <a:ext cx="4098960" cy="30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468360" y="189000"/>
            <a:ext cx="36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20. Století – vybrané osudy</a:t>
            </a:r>
            <a:endParaRPr b="0" lang="en-US" sz="1800" spc="-1" strike="noStrike">
              <a:solidFill>
                <a:srgbClr val="000000"/>
              </a:solidFill>
              <a:latin typeface="Arial"/>
            </a:endParaRPr>
          </a:p>
        </p:txBody>
      </p:sp>
      <p:sp>
        <p:nvSpPr>
          <p:cNvPr id="64" name="TextovéPole 2"/>
          <p:cNvSpPr/>
          <p:nvPr/>
        </p:nvSpPr>
        <p:spPr>
          <a:xfrm>
            <a:off x="250920" y="692280"/>
            <a:ext cx="446544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Calibri"/>
              </a:rPr>
              <a:t>JUDr. Emil Hácha /1872 - 27.6. 1945/</a:t>
            </a:r>
            <a:r>
              <a:rPr b="0" lang="cs-CZ" sz="1600" spc="-1" strike="noStrike">
                <a:solidFill>
                  <a:srgbClr val="ffffff"/>
                </a:solidFill>
                <a:latin typeface="Calibri"/>
              </a:rPr>
              <a:t> - podlehl chorobě ve vězeňské nemocnici, tělo vydáno rodině, ovšem pod podmínkou, že pohřeb proběhne bez všech oficialit, v Prazea jméno nebude rodinném hrobě na Vinohradském hřbitově uvede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Calibri"/>
              </a:rPr>
              <a:t>Karl Hermann Frank /1898 - 22. 5. 1946/ </a:t>
            </a:r>
            <a:r>
              <a:rPr b="0" lang="cs-CZ" sz="1600" spc="-1" strike="noStrike">
                <a:solidFill>
                  <a:srgbClr val="ffffff"/>
                </a:solidFill>
                <a:latin typeface="Calibri"/>
              </a:rPr>
              <a:t>- odsouzen k trestu smrti a před 5000 diváky na dvoře Pankrácké věznice oběšen, tělo pohřbeno do anonymního hrobu na Ďáblickém hřbitově /údajně rodina neprojevila záj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Calibri"/>
              </a:rPr>
              <a:t>Msgr. Jozef Tiso /1887 – 18.4. 1947/ </a:t>
            </a:r>
            <a:r>
              <a:rPr b="0" lang="cs-CZ" sz="1600" spc="-1" strike="noStrike">
                <a:solidFill>
                  <a:srgbClr val="ffffff"/>
                </a:solidFill>
                <a:latin typeface="Calibri"/>
              </a:rPr>
              <a:t>- popraven oběšením, rodina požádala o vydání těla, ale žádosti nebylo vyhověno a byl pohřben tajn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Calibri"/>
              </a:rPr>
              <a:t>Rudolf Slánský /1901 – 3. 12. 1952/ </a:t>
            </a:r>
            <a:r>
              <a:rPr b="0" lang="cs-CZ" sz="1600" spc="-1" strike="noStrike">
                <a:solidFill>
                  <a:srgbClr val="ffffff"/>
                </a:solidFill>
                <a:latin typeface="Calibri"/>
              </a:rPr>
              <a:t>- popraven oběšením, počátkem ledna 1953 bylo jeho tělo /spolu s těly ostatních 12ti odsouzených/ zpopelněno a popel byl vysypán na neznámém místě v okolí Prahy /na silnici na Benešov?/</a:t>
            </a:r>
            <a:endParaRPr b="0" lang="en-US" sz="1600" spc="-1" strike="noStrike">
              <a:solidFill>
                <a:srgbClr val="000000"/>
              </a:solidFill>
              <a:latin typeface="Arial"/>
            </a:endParaRPr>
          </a:p>
        </p:txBody>
      </p:sp>
      <p:pic>
        <p:nvPicPr>
          <p:cNvPr id="65" name="Obrázek 3" descr="3_16_19.jpg"/>
          <p:cNvPicPr/>
          <p:nvPr/>
        </p:nvPicPr>
        <p:blipFill>
          <a:blip r:embed="rId1"/>
          <a:stretch/>
        </p:blipFill>
        <p:spPr>
          <a:xfrm>
            <a:off x="7596360" y="1200240"/>
            <a:ext cx="1330200" cy="2595600"/>
          </a:xfrm>
          <a:prstGeom prst="rect">
            <a:avLst/>
          </a:prstGeom>
          <a:ln w="0">
            <a:noFill/>
          </a:ln>
        </p:spPr>
      </p:pic>
      <p:pic>
        <p:nvPicPr>
          <p:cNvPr id="66" name="Obrázek 4" descr="Emil_Hacha_grave_Vinohrady_Cemetery_Prague.JPG"/>
          <p:cNvPicPr/>
          <p:nvPr/>
        </p:nvPicPr>
        <p:blipFill>
          <a:blip r:embed="rId2"/>
          <a:stretch/>
        </p:blipFill>
        <p:spPr>
          <a:xfrm>
            <a:off x="4716360" y="260280"/>
            <a:ext cx="2627280" cy="1971720"/>
          </a:xfrm>
          <a:prstGeom prst="rect">
            <a:avLst/>
          </a:prstGeom>
          <a:ln w="0">
            <a:noFill/>
          </a:ln>
        </p:spPr>
      </p:pic>
      <p:pic>
        <p:nvPicPr>
          <p:cNvPr id="67" name="Obrázek 5" descr="slanky.jpg"/>
          <p:cNvPicPr/>
          <p:nvPr/>
        </p:nvPicPr>
        <p:blipFill>
          <a:blip r:embed="rId3"/>
          <a:stretch/>
        </p:blipFill>
        <p:spPr>
          <a:xfrm>
            <a:off x="6372360" y="4700520"/>
            <a:ext cx="2514600" cy="1970280"/>
          </a:xfrm>
          <a:prstGeom prst="rect">
            <a:avLst/>
          </a:prstGeom>
          <a:ln w="0">
            <a:noFill/>
          </a:ln>
        </p:spPr>
      </p:pic>
      <p:pic>
        <p:nvPicPr>
          <p:cNvPr id="68" name="Obrázek 6" descr="zadrzany-dr-jozef-tiso.jpg"/>
          <p:cNvPicPr/>
          <p:nvPr/>
        </p:nvPicPr>
        <p:blipFill>
          <a:blip r:embed="rId4"/>
          <a:stretch/>
        </p:blipFill>
        <p:spPr>
          <a:xfrm>
            <a:off x="4932360" y="2492280"/>
            <a:ext cx="2489040" cy="22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ovéPole 2"/>
          <p:cNvSpPr/>
          <p:nvPr/>
        </p:nvSpPr>
        <p:spPr>
          <a:xfrm>
            <a:off x="179280" y="189000"/>
            <a:ext cx="8785440" cy="62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ffffff"/>
                </a:solidFill>
                <a:latin typeface="Calibri"/>
              </a:rPr>
              <a:t>Použité materiály:</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Bestová, C., C., Trest smrti v německo-českém porovnání. Brno: Doplněk, 1996</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Brunner, A., Die Rechte an den Leichen den Hingerichteten. Juristische Blättern,  roč. 9, 1881, č. 45,s. 545-547</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Čelakovský, J.,Codex iuris muicialis II. regni bohemiae. Privilegia regalium ciitatum provincialium annorum 1225-1415.  Praha: Dr. Edv. Grégr, 1895</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Dostalík, P., Hrob jako res extra commercium. in: Bubelová, K. /ed./, Res – věci v římském právu. Sborník příspěvků z 10. konference právních romanistů ČR a SR konané ve dnech 14. – 16. 3. 2008 v Olomouci. Olomouc: Univerzita Palackého v Olomouci, 2008, s. 79-89</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Flodr., M.,  Brněnské městské právo: zakladatelské období /-1359/. Brno: Matice Moravská, 2001</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London, A., Doznání. Vimperk: Stráž, 1969</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Malý, K., České právo v minulosti. Praha: Orac, 1995</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Pasák, T. , JUDr. Emil Hácha. Praha: Horizont, 1997</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Petráň , J., Staroměstská exekuce. Praha: Mladá fronta, 1985</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Rašla, A. , Proces s dr. J. Tisom. Bratislava: Tatrapress, 1990</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Skřejpek, M. poodkryté tváře římského práva. Praha: Havlíček BRAINTEAM edice Avenira, 2006</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Sokol, P., Šibenice v Bečově nad Teplou a archeologie popravišť. Archeologické rozhledy. roč. LV, 2003, s. 736-766</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Stieber, M., Dějiny veřejného práva ve střední Evropě, nástin. Kniha třetí: právo trestní. Praha: vlastním nákladem, 1937</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Storch, Fr., Řízení trestní rakouské, II. díl. Praha: Jednota právnická, 1897</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Ströbinger, R., Vražda generálního tajemníka. Kaplan, K., zpráva o zavraždění generálního tajemníka. Praha: Mladá Fronta, 1992</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ffffff"/>
                </a:solidFill>
                <a:latin typeface="Calibri"/>
              </a:rPr>
              <a:t>Tunys, L., Noc před popravou: K. H. Frank a jeho obhájce. Praha, J. a J. , 1995</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ffffff"/>
                </a:solidFill>
                <a:latin typeface="Calibri"/>
              </a:rPr>
              <a:t>Vyobrazení:</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a3d6"/>
                </a:solidFill>
                <a:uFillTx/>
                <a:latin typeface="Calibri"/>
                <a:hlinkClick r:id="rId1"/>
              </a:rPr>
              <a:t>http://www.cestujme.cz/sibenice/sibenice.php?jaz=0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a3d6"/>
                </a:solidFill>
                <a:uFillTx/>
                <a:latin typeface="Calibri"/>
                <a:hlinkClick r:id="rId2"/>
              </a:rPr>
              <a:t>http://www.moskyt.net/view.php?cisloclanku=2008050004</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a3d6"/>
                </a:solidFill>
                <a:uFillTx/>
                <a:latin typeface="Calibri"/>
                <a:hlinkClick r:id="rId3"/>
              </a:rPr>
              <a:t>www.novinky.cz</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0000"/>
                </a:solidFill>
                <a:uFillTx/>
                <a:latin typeface="Calibri"/>
              </a:rPr>
              <a:t>http://pospolitost.wordpress.com/2008/04/21/priebeh-zatknutia-vaznenia-politickeho-procesu-a-justicnej-vrazdy-prveho-prezidenta-dr-jozefa-tis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0000"/>
                </a:solidFill>
                <a:uFillTx/>
                <a:latin typeface="Calibri"/>
              </a:rPr>
              <a:t>www.thelatinlibrary.com</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0000"/>
                </a:solidFill>
                <a:uFillTx/>
                <a:latin typeface="Calibri"/>
              </a:rPr>
              <a:t>www.wikipedie.cz</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0000"/>
                </a:solidFill>
                <a:uFillTx/>
                <a:latin typeface="Calibri"/>
              </a:rPr>
              <a:t>http://www.zasvobodu.cz/clanek.php?c=12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ovéPole 1"/>
          <p:cNvSpPr/>
          <p:nvPr/>
        </p:nvSpPr>
        <p:spPr>
          <a:xfrm>
            <a:off x="1042920" y="2492280"/>
            <a:ext cx="70581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Calibri"/>
              </a:rPr>
              <a:t>DĚKUJI ZA POZORNOS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fffff"/>
                </a:solidFill>
                <a:latin typeface="Calibri"/>
              </a:rPr>
              <a:t>Pavel Salák j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ovéPole 1"/>
          <p:cNvSpPr/>
          <p:nvPr/>
        </p:nvSpPr>
        <p:spPr>
          <a:xfrm>
            <a:off x="468360" y="620640"/>
            <a:ext cx="799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Smrt – chápeme jako absolutní x může nastat i situace, kdy trest mohl trvat i po smrti pachate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Následující situace:</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Porušení tělesné integrity pachatele /jeho mrtvoly/</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Netělesný trest na mrtvém pachateli /trest „na cti“/</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Kombinace uvedených trestů</a:t>
            </a:r>
            <a:endParaRPr b="0" lang="en-US" sz="1800" spc="-1" strike="noStrike">
              <a:solidFill>
                <a:srgbClr val="000000"/>
              </a:solidFill>
              <a:latin typeface="Arial"/>
            </a:endParaRPr>
          </a:p>
        </p:txBody>
      </p:sp>
      <p:sp>
        <p:nvSpPr>
          <p:cNvPr id="45" name="TextovéPole 2"/>
          <p:cNvSpPr/>
          <p:nvPr/>
        </p:nvSpPr>
        <p:spPr>
          <a:xfrm>
            <a:off x="826920" y="2852640"/>
            <a:ext cx="7129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Situace, které mohou nast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1. Odsouzený zemře při vykonávání trest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Tresty podle Tereziany / Constitutio Criminalis Theresiana, 1768, platil pro Rakousy a české zem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Kruté tresty – upálení, čtvrcení, lámání kolem sdola nahoru a lámání kolem shora dol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2. Tresty, které následovaly po smrti odsouzené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Ferdinandea /Hrdelní řád Ferdinanda III., 1656 pro Dolní Rakous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spálení mrtvého, vbití v kolo, přibití ruky na šibenici, probití srd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3. Pachatel zemře před vykonáním trest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755640" y="692280"/>
            <a:ext cx="5977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Tresty na mrtvém pachateli I. – městské právo ve středově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ffffff"/>
                </a:solidFill>
                <a:latin typeface="Calibri"/>
              </a:rPr>
              <a:t>Jihlavské městské právo /cca 124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Muž, který přistihne nevěrnou ženu má právo oba pachatele zabít, žena i milenec pak mají být nadto ještě probodeni kůlem /trest za nevěru podle jihlavského prá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ffffff"/>
                </a:solidFill>
                <a:latin typeface="Calibri"/>
              </a:rPr>
              <a:t>Privilegium Smila z Lichtenburka pro Německý Brod /127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V případě kvaltu /heymsuchung/: </a:t>
            </a:r>
            <a:r>
              <a:rPr b="0" i="1" lang="cs-CZ" sz="1800" spc="-1" strike="noStrike">
                <a:solidFill>
                  <a:srgbClr val="ffffff"/>
                </a:solidFill>
                <a:latin typeface="Calibri"/>
              </a:rPr>
              <a:t>„Item kdož byl přemožen, že by mocí na duom běžal, má sťat býti. ..... A jestliže by ten násilník tu </a:t>
            </a:r>
            <a:r>
              <a:rPr b="0" lang="cs-CZ" sz="1800" spc="-1" strike="noStrike">
                <a:solidFill>
                  <a:srgbClr val="ffffff"/>
                </a:solidFill>
                <a:latin typeface="Calibri"/>
              </a:rPr>
              <a:t>( rozuměj v nutné obraně – pozn. autor)</a:t>
            </a:r>
            <a:r>
              <a:rPr b="0" i="1" lang="cs-CZ" sz="1800" spc="-1" strike="noStrike">
                <a:solidFill>
                  <a:srgbClr val="ffffff"/>
                </a:solidFill>
                <a:latin typeface="Calibri"/>
              </a:rPr>
              <a:t> zabit byl, jakžkolivěk zabitý, má sťat býti.“</a:t>
            </a:r>
            <a:endParaRPr b="0" lang="en-US" sz="1800" spc="-1" strike="noStrike">
              <a:solidFill>
                <a:srgbClr val="000000"/>
              </a:solidFill>
              <a:latin typeface="Arial"/>
            </a:endParaRPr>
          </a:p>
        </p:txBody>
      </p:sp>
      <p:pic>
        <p:nvPicPr>
          <p:cNvPr id="47" name="Obrázek 2" descr="probodeni kulem.jpg"/>
          <p:cNvPicPr/>
          <p:nvPr/>
        </p:nvPicPr>
        <p:blipFill>
          <a:blip r:embed="rId1"/>
          <a:stretch/>
        </p:blipFill>
        <p:spPr>
          <a:xfrm>
            <a:off x="4500720" y="3808440"/>
            <a:ext cx="4174920" cy="2782800"/>
          </a:xfrm>
          <a:prstGeom prst="rect">
            <a:avLst/>
          </a:prstGeom>
          <a:ln w="0">
            <a:noFill/>
          </a:ln>
        </p:spPr>
      </p:pic>
      <p:sp>
        <p:nvSpPr>
          <p:cNvPr id="48" name="TextovéPole 3"/>
          <p:cNvSpPr/>
          <p:nvPr/>
        </p:nvSpPr>
        <p:spPr>
          <a:xfrm>
            <a:off x="395280" y="6093000"/>
            <a:ext cx="38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yobrazení: </a:t>
            </a:r>
            <a:r>
              <a:rPr b="0" lang="cs-CZ" sz="1200" spc="-1" strike="noStrike" u="sng">
                <a:solidFill>
                  <a:srgbClr val="00a3d6"/>
                </a:solidFill>
                <a:uFillTx/>
                <a:latin typeface="Calibri"/>
                <a:hlinkClick r:id="rId2"/>
              </a:rPr>
              <a:t>www.novinky.cz</a:t>
            </a:r>
            <a:r>
              <a:rPr b="0" lang="cs-CZ" sz="1200" spc="-1" strike="noStrike">
                <a:solidFill>
                  <a:srgbClr val="000000"/>
                </a:solidFill>
                <a:latin typeface="Calibri"/>
              </a:rPr>
              <a:t>, archiv Bobkov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ovéPole 1"/>
          <p:cNvSpPr/>
          <p:nvPr/>
        </p:nvSpPr>
        <p:spPr>
          <a:xfrm>
            <a:off x="324000" y="260280"/>
            <a:ext cx="71276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Trest na mrtvém pachateli II.  - Martin Fruwe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Martin Fruwein z Podolí </a:t>
            </a:r>
            <a:r>
              <a:rPr b="0" lang="pl-PL" sz="1800" spc="-1" strike="noStrike">
                <a:solidFill>
                  <a:srgbClr val="ffffff"/>
                </a:solidFill>
                <a:latin typeface="Calibri"/>
              </a:rPr>
              <a:t>(* ? Kowary/Schmiedeberg/ ve Slezsku, + 7. 6. 1621 Praha)</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dvokát a měšťan Starého města pražského</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Defensor za jednotu bratrskou, aktivní podíl na přípravě stavovského povstání</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1618 direktorem za mětský stav</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1619 – povýšen do rytířského stavu, </a:t>
            </a:r>
            <a:r>
              <a:rPr b="0" lang="cs-CZ" sz="1800" spc="-1" strike="noStrike">
                <a:solidFill>
                  <a:srgbClr val="ffffff"/>
                </a:solidFill>
                <a:latin typeface="Calibri"/>
              </a:rPr>
              <a:t>hofrychtéř královských i věnných měst</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1620 – zajat, vězněn a vyslýchán x po sdělení rozsudku využil nepozornosti stráží a skočil z Bílé věže do Jeleního příkopu</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Po třech dnech bylo jeho tělo vyneseno z Jeleního příkopu, dopraveno na bělohorské bojiště a zde rozčtvrceno, jedna část zůstala u bělohorské silnice, zbývající tři u různých městských bran a hlava pak byla připevněna k šibenici na Koňském trhu /dnešní Václavské náměstí/</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ovéPole 1"/>
          <p:cNvSpPr/>
          <p:nvPr/>
        </p:nvSpPr>
        <p:spPr>
          <a:xfrm>
            <a:off x="324000" y="620640"/>
            <a:ext cx="734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Trest na mrtvém pachateli III. – sebevraz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kdo sám sebe zavraždí, tělo i duši ztratí“ – církevní nau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Tr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Odepření pohřbu + konfiskace majet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Spálen „jako nerozumné zvíř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zákoník z r. 1803 §§ 203 a 498: pokud se sebevraždy dopustil zločinec, musí být trestní rozsudek vyvěšen po tři dny na šibenici a má být třikrát v zemských novinách uveřejně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Ne rozsudkem, ale již činem je pachatel vinen – proto se vykonává trest i na mrtvém tě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ovéPole 1"/>
          <p:cNvSpPr/>
          <p:nvPr/>
        </p:nvSpPr>
        <p:spPr>
          <a:xfrm>
            <a:off x="0" y="260280"/>
            <a:ext cx="5292720" cy="59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Calibri"/>
              </a:rPr>
              <a:t>Prevence – vystavení těla pachate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Poprava Spartakových otroků a jejich umístění podél Via Ap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Ciceronova hlava – důkaz , že byl zabit /podobně hlava Pompeia Magna předaná Caesarovi, popř. hlava Quinctilia Vara, ukazovaná jako výraz síly Cherusků Marobudov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Tělo ponecháno na šibenici, dokud se nerozpadlo, popř. mohla být hlava /či jiná část/ vystavena jinde/ - staroměstská exekuce  vedle Prahy ještě hlava Jana Šultyse z Felsdorfu byla vystavena v Kutné Hoře a hlava Maxmiliána Hošťálka z Javořic v Žat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1787 - Josef II. Zákon o zločinech a trestech na n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Pachatel musí být na šibenici vystaven po dobu 12ti hodin a pak teprve pohř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Ústup pod veřejných poprav – jen ve výjimečných případech</a:t>
            </a:r>
            <a:endParaRPr b="0" lang="en-US" sz="16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Retrbuční soudnictví x postupně se od veřejnosti ustupovalo z důvodu negativního ohlasu ze zahraničí </a:t>
            </a:r>
            <a:endParaRPr b="0" lang="en-US" sz="16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Spíš než odstrašení – akt pomsty a důkaz, že daná osoba skutečně již nežije /Nicolae Ceauşesc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Obrázek 2" descr="skulls.gif"/>
          <p:cNvPicPr/>
          <p:nvPr/>
        </p:nvPicPr>
        <p:blipFill>
          <a:blip r:embed="rId1"/>
          <a:stretch/>
        </p:blipFill>
        <p:spPr>
          <a:xfrm>
            <a:off x="5724360" y="189000"/>
            <a:ext cx="3227400" cy="3376440"/>
          </a:xfrm>
          <a:prstGeom prst="rect">
            <a:avLst/>
          </a:prstGeom>
          <a:ln w="0">
            <a:noFill/>
          </a:ln>
        </p:spPr>
      </p:pic>
      <p:pic>
        <p:nvPicPr>
          <p:cNvPr id="53" name="Obrázek 3" descr="obrazek.php.jpg"/>
          <p:cNvPicPr/>
          <p:nvPr/>
        </p:nvPicPr>
        <p:blipFill>
          <a:blip r:embed="rId2"/>
          <a:stretch/>
        </p:blipFill>
        <p:spPr>
          <a:xfrm>
            <a:off x="5435640" y="3062160"/>
            <a:ext cx="2468520" cy="37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ovéPole 1"/>
          <p:cNvSpPr/>
          <p:nvPr/>
        </p:nvSpPr>
        <p:spPr>
          <a:xfrm>
            <a:off x="324000" y="549360"/>
            <a:ext cx="36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Calibri"/>
              </a:rPr>
              <a:t>K varování i k zapomnění</a:t>
            </a:r>
            <a:endParaRPr b="0" lang="en-US" sz="2400" spc="-1" strike="noStrike">
              <a:solidFill>
                <a:srgbClr val="000000"/>
              </a:solidFill>
              <a:latin typeface="Arial"/>
            </a:endParaRPr>
          </a:p>
        </p:txBody>
      </p:sp>
      <p:sp>
        <p:nvSpPr>
          <p:cNvPr id="55" name="TextovéPole 2"/>
          <p:cNvSpPr/>
          <p:nvPr/>
        </p:nvSpPr>
        <p:spPr>
          <a:xfrm>
            <a:off x="324000" y="1052640"/>
            <a:ext cx="38876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Ří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Damnatio memorii – zákaz veřejného pohřbu se slavnostními projevy, zničení soh, vymazání jména , zákaz dané jméno používat v rodin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Germá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necetur in luto“ – zloděj měl být oběšen x nevěrná žena utopena v bažině /navíc ještě na ní měli být naházeny vět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Jan Hus – 1415 – upálen a popel rozházen do Rý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Savonarola - 1498 – oběšen a poté spálen</a:t>
            </a:r>
            <a:endParaRPr b="0" lang="en-US" sz="1800" spc="-1" strike="noStrike">
              <a:solidFill>
                <a:srgbClr val="000000"/>
              </a:solidFill>
              <a:latin typeface="Arial"/>
            </a:endParaRPr>
          </a:p>
        </p:txBody>
      </p:sp>
      <p:pic>
        <p:nvPicPr>
          <p:cNvPr id="56" name="Obrázek 3" descr="Jan_Hus2.jpg"/>
          <p:cNvPicPr/>
          <p:nvPr/>
        </p:nvPicPr>
        <p:blipFill>
          <a:blip r:embed="rId1"/>
          <a:stretch/>
        </p:blipFill>
        <p:spPr>
          <a:xfrm>
            <a:off x="5292720" y="260280"/>
            <a:ext cx="3624120" cy="5411880"/>
          </a:xfrm>
          <a:prstGeom prst="rect">
            <a:avLst/>
          </a:prstGeom>
          <a:ln w="0">
            <a:noFill/>
          </a:ln>
        </p:spPr>
      </p:pic>
      <p:sp>
        <p:nvSpPr>
          <p:cNvPr id="57" name="TextovéPole 4"/>
          <p:cNvSpPr/>
          <p:nvPr/>
        </p:nvSpPr>
        <p:spPr>
          <a:xfrm>
            <a:off x="5292720" y="616572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Kronika Ulricha z Richenthalu, 15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ovéPole 1"/>
          <p:cNvSpPr/>
          <p:nvPr/>
        </p:nvSpPr>
        <p:spPr>
          <a:xfrm>
            <a:off x="468360" y="0"/>
            <a:ext cx="835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Pohřbívání v Římě</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De cadaveribus punitorum – D 48,24,1-3</a:t>
            </a:r>
            <a:endParaRPr b="0" lang="en-US" sz="1800" spc="-1" strike="noStrike">
              <a:solidFill>
                <a:srgbClr val="000000"/>
              </a:solidFill>
              <a:latin typeface="Arial"/>
            </a:endParaRPr>
          </a:p>
        </p:txBody>
      </p:sp>
      <p:sp>
        <p:nvSpPr>
          <p:cNvPr id="59" name="TextovéPole 3"/>
          <p:cNvSpPr/>
          <p:nvPr/>
        </p:nvSpPr>
        <p:spPr>
          <a:xfrm>
            <a:off x="250920" y="981000"/>
            <a:ext cx="8713800" cy="59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Dig. 48.24.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Ulpianus 9 de off. procon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Corpora eorum qui capite damnantur cognatis ipsorum neganda non sunt: et id se observasse etiam divus augustus libro decimo de vita sua scribit. hodie autem eorum, in quos animadvertitur, corpora non aliter sepeliuntur, quam si fuerit petitum et permissum, et nonnumquam non permittitur, maxime maiestatis causa damnatorum. eorum quoque corpora, qui exurendi damnantur, peti possunt, scilicet ut ossa et cineres collecta sepulturae tradi possint. </a:t>
            </a:r>
            <a:r>
              <a:rPr b="0" lang="cs-CZ" sz="1600" spc="-1" strike="noStrike">
                <a:solidFill>
                  <a:srgbClr val="ffffff"/>
                </a:solidFill>
                <a:latin typeface="Calibri"/>
              </a:rPr>
              <a:t> Dříve těla těch,  co byli odsouzeni k smrti nemohla být odepřena  </a:t>
            </a:r>
            <a:r>
              <a:rPr b="0" i="1" lang="cs-CZ" sz="1600" spc="-1" strike="noStrike">
                <a:solidFill>
                  <a:srgbClr val="ffffff"/>
                </a:solidFill>
                <a:latin typeface="Calibri"/>
              </a:rPr>
              <a:t>- Těla odsouzených k smrti nemohou být odepřena příbuzným, což píše i Augustus ve svém životopise. Nyní je ale situace taková, že tělo může být pohřbeno jen je-li vyžádáno a je udělen souhlas. Ten nebývá udělen, dopustil-li se pachatel velezrady. Dokonce je možno požádat i o zbytky těla – kosti a popel – osob odsouzených k upálení.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Marcianus 2 pub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Si quis in insulam deportatus vel relegatus fuerit, poena etiam post mortem manet, nec licet eum inde transferre aliubi et sepelire inconsulto principe: ut saepissime severus et antoninus rescripserunt et multis petentibus hoc ipsum indulserunt. </a:t>
            </a:r>
            <a:r>
              <a:rPr b="0" lang="cs-CZ" sz="1600" spc="-1" strike="noStrike">
                <a:solidFill>
                  <a:srgbClr val="ffffff"/>
                </a:solidFill>
                <a:latin typeface="Calibri"/>
              </a:rPr>
              <a:t> - </a:t>
            </a:r>
            <a:r>
              <a:rPr b="0" i="1" lang="cs-CZ" sz="1600" spc="-1" strike="noStrike">
                <a:solidFill>
                  <a:srgbClr val="ffffff"/>
                </a:solidFill>
                <a:latin typeface="Calibri"/>
              </a:rPr>
              <a:t>Byl-li někdo odsouzen k vyhnanství, trest trvá i po smrti a jeho tělo tedy může být pohřbeno jinde jen se souhlasem císaře jak v reskriptech uvedl Severus a Antoninus, přičemž často poskytnuly onu laskavost lidem, kteří o to požádal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Paulus 1 sen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a-VA" sz="1600" spc="-1" strike="noStrike">
                <a:solidFill>
                  <a:srgbClr val="ffffff"/>
                </a:solidFill>
                <a:latin typeface="Calibri"/>
              </a:rPr>
              <a:t>Corpora animadversorum quibuslibet petentibus ad sepulturam danda sunt. </a:t>
            </a:r>
            <a:r>
              <a:rPr b="0" lang="cs-CZ" sz="1600" spc="-1" strike="noStrike">
                <a:solidFill>
                  <a:srgbClr val="ffffff"/>
                </a:solidFill>
                <a:latin typeface="Calibri"/>
              </a:rPr>
              <a:t> </a:t>
            </a:r>
            <a:r>
              <a:rPr b="0" i="1" lang="cs-CZ" sz="1600" spc="-1" strike="noStrike">
                <a:solidFill>
                  <a:srgbClr val="ffffff"/>
                </a:solidFill>
                <a:latin typeface="Calibri"/>
              </a:rPr>
              <a:t>- Tělo odsouzeného má být vydáno k pohřbu komukoliv, kdo o to požádá.</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ovéPole 1"/>
          <p:cNvSpPr/>
          <p:nvPr/>
        </p:nvSpPr>
        <p:spPr>
          <a:xfrm>
            <a:off x="0" y="0"/>
            <a:ext cx="4140360" cy="672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Středověk a novově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Klatba: „tělo ponechán zvířatům v lese, ptákům v povětří a rybám ve vod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Tělo ponecháno na popravišti, zpravidla dokud nespadlo a zde také pohřbe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Výjimka – 1622 hlava Jáchyma Ondřeje Šlika sňata a pohřbena  spolu s tělem x na základě povolení panovníka, který vyhověl prosbám jeho manželk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Zákon o zločinech a trestech na ně r. 1787 - trvá zákaz pohřbívání odsouzených rodinou /výsledně uvede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zákon č. 119/1873 ř.z, trestní řád § 404 : </a:t>
            </a:r>
            <a:r>
              <a:rPr b="0" i="1" lang="cs-CZ" sz="1600" spc="-1" strike="noStrike">
                <a:solidFill>
                  <a:srgbClr val="ffffff"/>
                </a:solidFill>
                <a:latin typeface="Calibri"/>
              </a:rPr>
              <a:t>„Tělo popraveného budiž v tichosti pohřbeno v noci na místě zvlášť k tomu určeném; může se však vydati k pochování jeho rodině, žádá-li o to a není-li proti tomu námitek. Také v tomto případě se smí pohřeb vykonati jen v tichosti a beze vší nádhe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alibri"/>
              </a:rPr>
              <a:t>zákon č. 87/1950 Sb. , trestní řád – není tato problematika řešena</a:t>
            </a:r>
            <a:endParaRPr b="0" lang="en-US" sz="1600" spc="-1" strike="noStrike">
              <a:solidFill>
                <a:srgbClr val="000000"/>
              </a:solidFill>
              <a:latin typeface="Arial"/>
            </a:endParaRPr>
          </a:p>
        </p:txBody>
      </p:sp>
      <p:pic>
        <p:nvPicPr>
          <p:cNvPr id="61" name="Obrázek 2" descr="mrtvoly u sibenice.jpg"/>
          <p:cNvPicPr/>
          <p:nvPr/>
        </p:nvPicPr>
        <p:blipFill>
          <a:blip r:embed="rId1"/>
          <a:stretch/>
        </p:blipFill>
        <p:spPr>
          <a:xfrm>
            <a:off x="4067280" y="333360"/>
            <a:ext cx="3411360" cy="2584440"/>
          </a:xfrm>
          <a:prstGeom prst="rect">
            <a:avLst/>
          </a:prstGeom>
          <a:ln w="0">
            <a:noFill/>
          </a:ln>
        </p:spPr>
      </p:pic>
      <p:pic>
        <p:nvPicPr>
          <p:cNvPr id="62" name="Obrázek 3" descr="DSC06019.jpg"/>
          <p:cNvPicPr/>
          <p:nvPr/>
        </p:nvPicPr>
        <p:blipFill>
          <a:blip r:embed="rId2"/>
          <a:stretch/>
        </p:blipFill>
        <p:spPr>
          <a:xfrm>
            <a:off x="6443640" y="2205000"/>
            <a:ext cx="2435400" cy="444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17:46:41Z</dcterms:created>
  <dc:creator>10908</dc:creator>
  <dc:description/>
  <dc:language>en-US</dc:language>
  <cp:lastModifiedBy>O</cp:lastModifiedBy>
  <dcterms:modified xsi:type="dcterms:W3CDTF">2010-09-16T20:58:24Z</dcterms:modified>
  <cp:revision>54</cp:revision>
  <dc:subject/>
  <dc:title>Trvání trestu po smrti pachatele</dc:title>
</cp:coreProperties>
</file>