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5DB-AE6A-4B78-841E-14F0CA84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B7F6-C3E4-4CAF-A043-6EB21A82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5C8A-A774-4EC5-875F-F12F15D1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051-D57C-4B87-A8B2-F7CE7D22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E6A0-F3B5-4183-BBF0-3BD42784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0CE0-1417-4196-9E75-1E50D5FA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898B-AEBA-4D39-93FC-38F44134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5107-FA11-4E27-BF8E-F133724A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0B11-CD52-4EB7-8EBA-90A24521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054F-086E-45BA-9279-AC63BB2F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46AE-1603-4AE4-99E6-4C2B847E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D7D5-22CC-4A80-B7F1-0F43F5A5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0245-A2FD-4409-872F-CF88D501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E158-4818-437E-B72A-44FD4D31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A2FE-DF77-4C75-82F8-AFD9976B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1F1A-562D-46A1-B551-8E7B1129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83A9-84EB-4E3E-A3E5-B925984D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E60F-6E77-4159-ABC3-CA532762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DDD9-9BDE-440E-80D5-AEE2F1DC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0D77-BB51-4286-BC12-B1B688E1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1A5-39A2-4185-9E1F-5316CBA7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823C-3D06-44FE-8591-13F6CDB4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5C59-8585-4918-B72F-85F3DF7A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23BF-EAEC-4B69-B1E2-93F10FCF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CE1C-609B-4D5C-90EB-F0638A471EB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B5B2-AD05-45CD-ACC3-589132F1B1B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kvh-ostrava.cz/" TargetMode="External"/><Relationship Id="rId2" Type="http://schemas.openxmlformats.org/officeDocument/2006/relationships/hyperlink" Target="http://www.armentum.cz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Vojenské trestní právo</a:t>
            </a:r>
            <a:br>
              <a:rPr sz="4800"/>
            </a:b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v dějinách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UDr. Pavel Salák jr., Ph.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4" descr="logo"/>
          <p:cNvPicPr/>
          <p:nvPr/>
        </p:nvPicPr>
        <p:blipFill>
          <a:blip r:embed="rId1"/>
          <a:stretch/>
        </p:blipFill>
        <p:spPr>
          <a:xfrm>
            <a:off x="250920" y="189000"/>
            <a:ext cx="26874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900000" y="549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ojenský trestní zákon z r. 185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68360" y="1341360"/>
            <a:ext cx="835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íl  - všeobecná ustanov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íl – vojenské trestné činy /není název hlavy/ - porušení voj. služební povinnosti, subordinace, vzpoura a odboj, zbabělost, rušení kázně.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íl – O zločinech proti válečné moci státu a kterak se trestaj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íl – O jiných zločinech a kterak se trestaj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íl  - O obecných přečinech a kterak se trestají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1187280" y="692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meny vojenského trestního práva v 2. pol. 20. st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84360" y="1268280"/>
            <a:ext cx="3527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motné práv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estní záko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6/1950 Sb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/1957 Sb. /úplné znění po novele 63/1956 Sb.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40/1961 Sb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500720" y="1341360"/>
            <a:ext cx="4103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cesní práv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estní řá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7/1950 Sb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4/1956 Sb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41/1961 Sb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116000" y="62064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ojenské kárné právo /vojenské disciplinární trestní právo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95280" y="1268280"/>
            <a:ext cx="84247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postihuje méně závažné provinění důstojníků a rotmistrů oddělilo se od vojenského trestního prá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sciplinární trestní norma /1763/ - poprvé samostatně, služební řády /1768, 1807,1860/, Disciplinární předpis /1869/, služební řád /1872, změněn 1903/, disciplinární řád ruských legií /1918-neosvědčil se/, Zatímní kázeňský řád /1919 – vliv rakouského/, Služební řád /1922/ zákon č. 154/1923 Sb. z. a 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ůvodně účelem chránit důstojnickou čest x 1. ČSR dobré jméno vojsk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55 – některé poklesky prohlašoval za zločin x jiné netrestal vůbec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→ svémoc /důstojníci provinilce vyzývali ke vzdání se hodnosti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867 – vojenské čestné sou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87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vojenské čestné 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919 – disciplinární výb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923 – kárné výb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755640" y="260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ojenské soudy 16.-18. stol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79280" y="836640"/>
            <a:ext cx="8964720" cy="55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16. stol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oudy plukovní , majitel pluku /velitel/ - rozhoduje ve věcech trestních i civilních, pluk disponuje profousem,biřici a kate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oud vycházel z německého práva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vořen jedním soudcem /šoltýsem/, po španělském vzoru později označen jako audito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neměl speciální právní vzdělání x byl nejstarší válečník, který znal dobře válečné zvyklosti a s válečným právem měl tak zkušenost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úkolem bylo řídit celý proces, v období stavů měl jen poradní hlas /rozhodovali „šéfové“/, později v císařské armádě získal rozhodovací hl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kud nebyl přítomen auditor, konal se soud před celým plukem a rozsudek vynášeli vojáci z různých oddílů – pozůstatek samosprávních soudů / „oštěpní právo“ a „postavení před prostého muže“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 konce 16. stol. vedle běžného řízení i řízení za stanného práva /na pochodech atp.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ces byl v zásadě veřejný a ústní, obecně postaven na zásadě akusatornosti  /dle Karoliny/ x pouze u těžkých zločinů byl proces inkviziční podle kanonického prá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17. stol.  a 18. stol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stupuje ústnost a veřejnost /pod vlivem obecného práva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ditoři mají právní vzdělání a soudci jsou zároveň žalobci – odpadá obhajob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 18. stol. ještě místy přežívá akusatorní řízení,ale nakonec zcela vítězí inkviziční proces /dle Teresiany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476360" y="18900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9.stol. a 20. st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95280" y="126828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539640" y="620640"/>
            <a:ext cx="820908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68 – následkem porážek r. 1866 reforma armády – definitivní zánik institutu majitelů pluk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→ konec plukovních soud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ová struktura – brigádní soud – divizní soud – nejvyšší sou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tato struktura v zásadě převzata i za 1. republi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945 – soudy první stolice – nejvyšší vojenský sou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947 – návrh na krajské vojenské soudy a vrchní vojenské soudy /3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od 1953 vojenské obvodové soudy – vyšší vojenské soudy /Tábor, Olomouc, Trenčín/ , struktura se několikrát měnila /i vliv federace 1969/ zrušeny 31. 12. 1993 /ČR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7" descr="pol soud epanay 44"/>
          <p:cNvPicPr/>
          <p:nvPr/>
        </p:nvPicPr>
        <p:blipFill>
          <a:blip r:embed="rId1"/>
          <a:stretch/>
        </p:blipFill>
        <p:spPr>
          <a:xfrm>
            <a:off x="5724360" y="4530600"/>
            <a:ext cx="3419640" cy="2327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pol soud lověstoft 42"/>
          <p:cNvPicPr/>
          <p:nvPr/>
        </p:nvPicPr>
        <p:blipFill>
          <a:blip r:embed="rId2"/>
          <a:stretch/>
        </p:blipFill>
        <p:spPr>
          <a:xfrm>
            <a:off x="0" y="4014720"/>
            <a:ext cx="4067280" cy="2843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4427640" y="4076640"/>
            <a:ext cx="453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olní vojenské soudy I. instance ve Velké Británii a ve Francii, Czechoslowak military justic in Great Britain 1939-194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971640" y="333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ersonální příslušnost vojenských soud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11280" y="765000"/>
            <a:ext cx="820872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. vojáci  a důstojníci v aktivní službě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ylo jedno, zda trvalé, nebo dočasné /vojenské cvičení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pokud by vojenský delikt vešel ve známost až po skončení služby, jsou příslušné soudy civilní, leda by opět došlo k aktivní službě /bylo zakázáno za tímto účelem k službě povolat/, obecný delikt pak již mohl být souzen jen obecnými soud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on z r. 1912 – po dobu jednoho roku od skončení vojenské služby /vliv německého řádu – zde bez časového omezení/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I. aktivní příslušníci četnictva /důstojníci i mužstvo/ - spadají pod soudy zeměbranské  - Landweh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II. u některých vojenských činů i neaktivní vojáci /např. neuposlechnutí povolávacího rozkazu, t. č. proti vojenským soudům, porušení poměru podřízenosti x musí být spácháno v uniformě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V. neaktivní vojáci nadále zaměstnaní u armády, zeměbrany či četnictva /od 1912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. vysloužilci ve vojenských invalidovnách a osoby ve vojenských věznicí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. námořní loupež – vyplývá z mezinárodního práva x lupič musí být chycen rakouským válečným loďstvem /trest smrti provaze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755640" y="76500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95280" y="476280"/>
            <a:ext cx="8424720" cy="53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v období války pak ještě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. všechny osoby doprovázející vojsko /markytánky, vozkové, dodavatelé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I. váleční zajatci a rukojmí – jsou-li v rukou vojenských sborů /Haagská konference 1907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II. kdokoliv v případu „zločinů proti válečné moci státní“ /vyzvědačství, nedovolené verbování,...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původně příslušeli soudy vždy x od 1869 omezeno jen na dobu vál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mohlo být rozšířeno i na dobu válce předcházející /přípravy, mobilisace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dokoliv – tj. nejen vojáci, ale i civilisté, v případě operací na cizím státním území i cizinci /princip ochrany vycházející z mezinárodního práva trestního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r. 1950: osoby ve výslužbě a penzisté, osoby povolané k zvláštní službě , které se staly součástí branné moci, osoby povolané k osobním úkonům pro brannou moc, invalidé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r. 1956: vojáci, příslušníci jiných ozbrojených sborů, váleční zajatci + vojáci mimo činnou službu /čin nenastoupení služby/ a civilisté /činy proti obraně vlasti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238560" y="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esty 16.-18. st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79280" y="189000"/>
            <a:ext cx="5040360" cy="63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mbolem moci byla hůl /všichni velitelé až do hodnosti kaprála-desátníka/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esty fyzické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zení na osl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ězení, vězení v okovech /na pochodu připoutání ke káře profouse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ojenský artikul 1699 – useknutí pěsti/vztažení ruky na důstojníka/, useknutí dvou prstů /křivopřísežnictví/, oběšení /dezerce/, naražení na kůl /přeběhnutí k nepříteli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ostřejší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lička – odsouzenec musí probíhat uličkou ostatních vojáků vybavených holemi a ty jej bijí – nejostřejší 36běhů /na život a na smrt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752 – zmírnění, běhy podle závažnosti 2- 10 /6 u jízdy/, ulička tvořena 300 vojáky /150 u jízdy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užební předpis z r. 1803 – pokud není schopen voják absolvovat celý trest, má mu být zbytek trestu odložen než se uzdrav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8. stol. – nejčastější trest – opevňovací práce /6-10 let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6" descr="osew"/>
          <p:cNvPicPr/>
          <p:nvPr/>
        </p:nvPicPr>
        <p:blipFill>
          <a:blip r:embed="rId1"/>
          <a:stretch/>
        </p:blipFill>
        <p:spPr>
          <a:xfrm>
            <a:off x="5148360" y="692280"/>
            <a:ext cx="2519280" cy="2462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ulicka"/>
          <p:cNvPicPr/>
          <p:nvPr/>
        </p:nvPicPr>
        <p:blipFill>
          <a:blip r:embed="rId2"/>
          <a:stretch/>
        </p:blipFill>
        <p:spPr>
          <a:xfrm>
            <a:off x="6110280" y="2565360"/>
            <a:ext cx="3033720" cy="42926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7812000" y="476280"/>
            <a:ext cx="100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ezení na oslu,  kresba G. Krum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7812000" y="1413000"/>
            <a:ext cx="133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ulička u pluku Clerici, kol. vojenské dějiny Československa, Die Soldaten Marias Theresia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5"/>
          <p:cNvSpPr/>
          <p:nvPr/>
        </p:nvSpPr>
        <p:spPr>
          <a:xfrm>
            <a:off x="1476360" y="26028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esty v 2. pol. 19. stol. a 20. st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395280" y="692280"/>
            <a:ext cx="828036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est smr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oběšením – lze nahradit těžkým žalářem nad 10let, trest je spojen s vyškrtnutím z armády a se ztrátou šlechtictví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zastřelením /mírnější/ - lze nahradit prostým žalářem do 10let, pokud od činu proběhla dlouhá doba, tak musí být nahrazen žalář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na válečných lodích se trest vykonává vždy zastřelením, i když zní trest na oběš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cimace – trestán každý desátý pachatel /typicky vzpoury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 r. 1948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est smrti není obligatorním, vždy jen jako alternati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trest smrti oběšením v poli i zastřelení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79280" y="26028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est smr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6" descr="obesenci"/>
          <p:cNvPicPr/>
          <p:nvPr/>
        </p:nvPicPr>
        <p:blipFill>
          <a:blip r:embed="rId1"/>
          <a:stretch/>
        </p:blipFill>
        <p:spPr>
          <a:xfrm>
            <a:off x="250920" y="765000"/>
            <a:ext cx="3292560" cy="396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rumburk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kragujevac"/>
          <p:cNvPicPr/>
          <p:nvPr/>
        </p:nvPicPr>
        <p:blipFill>
          <a:blip r:embed="rId3"/>
          <a:stretch/>
        </p:blipFill>
        <p:spPr>
          <a:xfrm>
            <a:off x="3348000" y="3146400"/>
            <a:ext cx="4608720" cy="37116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9"/>
          <p:cNvSpPr/>
          <p:nvPr/>
        </p:nvSpPr>
        <p:spPr>
          <a:xfrm>
            <a:off x="468360" y="5013360"/>
            <a:ext cx="2590920" cy="703080"/>
          </a:xfrm>
          <a:prstGeom prst="rect">
            <a:avLst/>
          </a:prstGeom>
          <a:solidFill>
            <a:srgbClr val="d0d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oprava legionářů v Davonzu a vzbouřenců v Rumburku a Kragujevaci, kol. Vojenské dějiny Československa II., archiv VHÚ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ovéPole 2"/>
          <p:cNvSpPr/>
          <p:nvPr/>
        </p:nvSpPr>
        <p:spPr>
          <a:xfrm>
            <a:off x="1476360" y="26028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Antický svě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ovéPole 3"/>
          <p:cNvSpPr/>
          <p:nvPr/>
        </p:nvSpPr>
        <p:spPr>
          <a:xfrm>
            <a:off x="468360" y="112536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nformace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- zápisky historik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vojenské příruč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rávní památ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ovéPole 4"/>
          <p:cNvSpPr/>
          <p:nvPr/>
        </p:nvSpPr>
        <p:spPr>
          <a:xfrm>
            <a:off x="3132000" y="1557360"/>
            <a:ext cx="568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Antický Ří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extus Iulius Frontinus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/2. pol. 1.stol. n.l./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trategmata /Válečné lsti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e re militari  - ohlas v digeste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ublius  /Flavius/ Vegetius Renatus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/konec 4 stol. n.l./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Epitomae rei militaris /Nárys vojenského umění/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ovéPole 5"/>
          <p:cNvSpPr/>
          <p:nvPr/>
        </p:nvSpPr>
        <p:spPr>
          <a:xfrm>
            <a:off x="3348000" y="4005360"/>
            <a:ext cx="518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álečné právo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– odvětví týkající se vedení války – v podstatě mezinárodní právo /vyhlašování války, zacházení s válečnými zajatci,…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ojenské právo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– odvětví řešící  vojenské záležitosti vnitrostátně /vojenské trestní právo, soukromoprávní práva vojáků – manželství, ius postliminiu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79280" y="189000"/>
            <a:ext cx="8353440" cy="66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al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ěžký – má stejné následky jako trest smrti, vyškrtnutí z armády nastupuje pokud je vysloven na 10a více let, popř. několikrát odsouzen na trest žaláře delší 1 roku x platí pouze pro dobu tres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ěžn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životní/časově omezen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u každého trestu žalářem přísluší obvykle ztráta hodností a podobné následky jako v případě civilního odsouzení k žalář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ěz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pouze časově omezen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těžké/ běžné věz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domácí /max. 8 dní + pouze proti důstojníkům, duchovním a úředníkům/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zení u profouse /honorace, kadeti, gážisté, poddůstojníci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ádkové /kadeti, gážisté, šikovatelé a mužstvo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5" descr="kozelec"/>
          <p:cNvPicPr/>
          <p:nvPr/>
        </p:nvPicPr>
        <p:blipFill>
          <a:blip r:embed="rId1"/>
          <a:stretch/>
        </p:blipFill>
        <p:spPr>
          <a:xfrm>
            <a:off x="5796000" y="2852640"/>
            <a:ext cx="334800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250920" y="476280"/>
            <a:ext cx="87138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znice po r. 1950 : Bratislava, Brno, České Budějovice, Horažďovice, Hradec Králové (do r. 1951), Karlovy Vary, Košice, Kroměříž, Kutná Hora, Olomouc, Opava, Písek (do r. 1951), Plzeň, Praha a Táb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jenská trestnice – Op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rušeny 195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Vojenské nápravné útva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kárné oddíly /roty/ - od 1950 od r. 1952 nahradily věznice /původně 3 roty/, od r. 1957 jeden kárný prapor, 1962 – prapor dislokován v Sabinově, při zániku ČSFR byl prapor k 1.1.1993 převeden do ASR  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esty po 194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nětí svobody, nápravné opatření /u vojáka zákl. služby se nahrazuje odnětím svobody v VNÚ/ , ztráta čest. titulů a vyznamenání ztráta vojenské hodnosti/snížení vždy na hodnost vojína/zákaz činnosti,propadnutí majetku /prakticky v této oblasti se neužije/, peněžitý trest, propadnutí věci, vyhoštění /opět neužije se/ + trest smr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971640" y="33336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 r. 198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68360" y="1052640"/>
            <a:ext cx="835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dále platí právní úprav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  31. 12. 1993 – zrušeny vojenské soudy v Č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009 – zrušeny vojenské soudy na Slovensku /důvod – malá soudní agenda, vlivem profesionalizace armády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684360" y="3213000"/>
            <a:ext cx="8135640" cy="27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ěková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www.kvh-ostrava.c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luk Rittberg-Kaunit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www.armentum.c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luk We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9" descr="logo"/>
          <p:cNvPicPr/>
          <p:nvPr/>
        </p:nvPicPr>
        <p:blipFill>
          <a:blip r:embed="rId3"/>
          <a:stretch/>
        </p:blipFill>
        <p:spPr>
          <a:xfrm>
            <a:off x="7162920" y="4869000"/>
            <a:ext cx="19810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900000" y="6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Římské vojenské trestní prá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611280" y="162864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ahoma"/>
              </a:rPr>
              <a:t>Trestné činy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Zbaběl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Zr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euposlechnutí rozkaz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Vzpou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ovéPole 3"/>
          <p:cNvSpPr/>
          <p:nvPr/>
        </p:nvSpPr>
        <p:spPr>
          <a:xfrm>
            <a:off x="684360" y="3860640"/>
            <a:ext cx="43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ahoma"/>
              </a:rPr>
              <a:t>Tresty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Fyzické – bytí, poprava, decim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a cti“ – zbavení vojenských znaků /vojenský pás,atp./, zhoršení vojenských podmínek /strava, ubytování/, rozpuštění jednotky, damnatio memori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971640" y="18900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voj vojska 15. – 19. st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68360" y="577800"/>
            <a:ext cx="2735280" cy="63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4. st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šlechtické vojsko + zemská hotov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5. stol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tup žoldnéřů /Švýcaři, husité, lancknechti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7. st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oldnéřská vojsk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. stol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tálé armá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6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c.a k. vojsko a námořnictvo, zeměbrany, domobra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Picture 7" descr="uniformy"/>
          <p:cNvPicPr/>
          <p:nvPr/>
        </p:nvPicPr>
        <p:blipFill>
          <a:blip r:embed="rId1"/>
          <a:stretch/>
        </p:blipFill>
        <p:spPr>
          <a:xfrm>
            <a:off x="6012000" y="1484280"/>
            <a:ext cx="2890800" cy="4365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boj"/>
          <p:cNvPicPr/>
          <p:nvPr/>
        </p:nvPicPr>
        <p:blipFill>
          <a:blip r:embed="rId2"/>
          <a:stretch/>
        </p:blipFill>
        <p:spPr>
          <a:xfrm>
            <a:off x="2843280" y="620640"/>
            <a:ext cx="2354040" cy="237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lands"/>
          <p:cNvPicPr/>
          <p:nvPr/>
        </p:nvPicPr>
        <p:blipFill>
          <a:blip r:embed="rId3"/>
          <a:stretch/>
        </p:blipFill>
        <p:spPr>
          <a:xfrm>
            <a:off x="3059280" y="3429000"/>
            <a:ext cx="2836800" cy="3156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0"/>
          <p:cNvSpPr/>
          <p:nvPr/>
        </p:nvSpPr>
        <p:spPr>
          <a:xfrm>
            <a:off x="6372360" y="6093000"/>
            <a:ext cx="2592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lancknechti, auto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uniformy pluků za sedmileté války, www.armentum.cz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5435640" y="83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tředověká miniatura, Liber Mortus, BNL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ovéPole 1"/>
          <p:cNvSpPr/>
          <p:nvPr/>
        </p:nvSpPr>
        <p:spPr>
          <a:xfrm>
            <a:off x="1332000" y="333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ředově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ovéPole 2"/>
          <p:cNvSpPr/>
          <p:nvPr/>
        </p:nvSpPr>
        <p:spPr>
          <a:xfrm>
            <a:off x="0" y="836640"/>
            <a:ext cx="9144000" cy="47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Odlišná struktura vojs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- šlechta – na základě lenních či jiných podobných svazků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zemská hotov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žoldnéř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15. stol. – vzrůstá prvek žoldnéřský + snaha o pevnou organizaci dík dlouhotrvajícím konfliktům – vznik vojenských řád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Švýcarsk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empacherbrief 1393, Řád z r. 1476 – zejména ustanovení prosti zbabělosti a otázka zákazu braní kořisti během bitv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ěmecké řády – 15. stol. obdobím územních konfliktů, snaha o řešení vede mimo jiné ke vzniku landfrýd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Francouzské řády – souvisí se vznikem tzv. ordonančních kompanií  - stoletá válka + války vedené Burgundským vévodství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ovéPole 1"/>
          <p:cNvSpPr/>
          <p:nvPr/>
        </p:nvSpPr>
        <p:spPr>
          <a:xfrm>
            <a:off x="1763640" y="18900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České vojenské řády v 15. st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ovéPole 2"/>
          <p:cNvSpPr/>
          <p:nvPr/>
        </p:nvSpPr>
        <p:spPr>
          <a:xfrm>
            <a:off x="250920" y="98100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Tzv. Hodětínův řád – 1413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– odkaz na náboženské normy, vychází z feudální struktury vojsk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ravidla pro vedení války podle pražské univerzity z r. 1420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–teze: když nebojují ti, kteří mají /šlechta/, může bojovat i prostý lid; biblické odkazy, důraz na trestání smrtelných hříchů – základem čtyři artilku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Řád Jana Hvězdy z Vícemilic /Bzdinka/- 1421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– jen zlomkové inform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Žižkův řád  - 1423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vytvořen pro východočeský svaz, nevztahoval se jen pro polní vojsko,ale obecně na všechno území  pod jeho mocí a osoby na ně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- trestání nejen smrtelných hříchů, ale obecně hříchů, tresty velmi krut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-v právech a povinnostech rovnost, bez rozdílu společenského postav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- Patrně vliv na bratřícké hnutí na Slovensk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Řád Václava Vlčka z Čenova /konec 15. stol./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– řeší spíše technicko-taktické otázky, určen pro Jagellonce a popisuje husitskou taktiku /otázka možnosti jejího uplatnění v boji s Turky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1116000" y="333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ameny vojenského trestního práva 16.-17. st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50920" y="907920"/>
            <a:ext cx="410364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motné práv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. stol. – Artikuly Maxmiliána I. /1508/, Karla V. a Ferdinanda I. /1527/ a Maxmiliána II. /1570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ze výčet vojenských povinnost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bylo trestáno podle soudcovského uvá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prve později přesné sazby pro delik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tikuly pro císařskou milici – Ferdinand III. /1642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álečné artikuly  - Leopold II. /1699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bsidiárně Karolina /Hrdelní řád Karla V.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932360" y="1052640"/>
            <a:ext cx="396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cesní práv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rolin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msko-kanonický právo – jen u těžkých zločin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763640" y="18900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meny vojenského trestního práva 18. – 19. stol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4000" y="836640"/>
            <a:ext cx="4465440" cy="60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motné práv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pis /Řád/ pro pěchotu a jízdu – Marie Terezie /1768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yl několikrát upravován /1798, 1808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tnost rozšířena i na námořnictvo /1803, 1815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bsidiárně Teresiana /od 1769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jenský trestní zákon /č. 19/1855 ř.z.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liv přijetí Trestního zákoníku r.  1803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dea všeobecného trestního prá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naha stanovit pevné trestní x dosud záviselo na soudním rozhodnutí nebo válečné potřebě – tresty nebyly jednotn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práce probíhají od r. 1830 x několikrát přerušeny a opět zahájeny až 18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932360" y="836640"/>
            <a:ext cx="403236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cesní práv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rolina + pozdější soudní řá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od 1754 výslovně uvedeno /Militärjustiznor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resiana /1769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dní řád /1790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rmy a nařízení nejvyššího vojenského soudu a centrálních úřadů – celkem asi 600 – velký zmat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84 – Vojenský trestní procesní řá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1258920" y="18900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meny vojenského trestního práva v 1. pol. 20. st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79280" y="907920"/>
            <a:ext cx="396108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motné práv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jenský trestní zákon 185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. 9/1918 Sb. z. a n. – zrušeny účinky vojenské služební přísahy /účinnost zákon a už zařazením do branné moci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. 556/1919 Sb. z. a n., změna obecné, IV.a V. část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.50/1923 Sb. z. a n., na ochranu republiky – zrušen skoro celý třetí díl /x po dobu mobilizace a války zachovány vyšší sazby z v.tr.z.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. 49/1931 Sb. z. a n. – trestní odpovědnost osob mladších 18 l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148360" y="857160"/>
            <a:ext cx="3816360" cy="60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cesní práv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kon č. 131/1912 ř. z , vojenský tr. ř. pro zeměbran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k. čl. 33/1912 vojenský tr. ř. pro uherskou zeměbran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kon č. 89/1918 Sb. z . a n. – zrušení institutu příslušného velitele /vytvoření oddělených žalobních orgánů podřízených MNO/ zrovnoprávnění co do hodnosti – příslušnost soudu už dána jen vážností čin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kon č. 115/1937 Sb. z. a n., o vojenském polním trestním říz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krety presidenta republiky č. 119/45 Sb. a č. 120/45 Sb.  - nedostatek odbor. právníků – soudy první stolice /místo brigádních a divisních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6:37:00Z</dcterms:created>
  <dc:creator>Salak</dc:creator>
  <dc:description/>
  <dc:language>en-US</dc:language>
  <cp:lastModifiedBy>10908</cp:lastModifiedBy>
  <dcterms:modified xsi:type="dcterms:W3CDTF">2010-08-31T12:17:55Z</dcterms:modified>
  <cp:revision>23</cp:revision>
  <dc:subject/>
  <dc:title>Vojenské trestní právo</dc:title>
</cp:coreProperties>
</file>